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295-70DC-49EE-BBB0-CE75A785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2B3-DE37-416A-B2E9-583E1069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9F256-58E3-4015-82D5-28FCACD1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D41A9-F285-4C49-9DCD-DE77CAA6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0925F-BBD4-4542-92A7-865BDF09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72DA2-8B6F-4F76-9141-1A14F774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36391-79B2-46E9-9825-B83D4079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FC83C-B422-4E56-9D96-0FBB3E5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5739F-9055-4796-9719-149B53A2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15A22-3ADD-4E56-8F02-D59F2FA2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871D-332A-403F-A083-773BB054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E97C3-9A31-48E4-AF27-39A6E433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7EC-F3D8-4F21-94FF-42B79DD2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ACDD-101E-46B5-90E2-09C31680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5C84C-F42F-430F-A57F-BFBE2C7A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032F1-DA47-4914-AFCB-EF101EBB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5911C-C1EF-41E9-A0CB-14B36C81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22040-CC40-4086-BFBF-FC7A08ED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B5DA5-C316-4567-A70A-60B8638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7CE0F-0C6E-4FEC-883E-FF03D2F6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A3538-0631-459D-8A25-B850EB82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7673C-9766-4488-82BD-7E46BA26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069EF-151F-4664-ADE8-B657079A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C87-AF04-4546-AFAC-4930C708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2D10D-0430-4BA8-8B2B-FF9BA145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DC96B-71BC-455F-ACD7-7AC5662E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156C9-FB6D-4ED4-BBC2-E6C75D6A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9A356-69DD-4138-85D5-A113B2AD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80669-6943-49CC-973D-24BB3F5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4E4C5-A021-4875-969E-DC8A8615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A6221-9708-448F-9A9F-5DFFC668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38D6E-DFC4-487D-8B85-E42FAD8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1C2C4-8658-4816-8E24-E3A9BFBD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E266D-CE46-4106-B551-EA96225B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CB05-5870-4CCE-AAC2-C9CBA567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61D02-6095-43E4-8E2C-D4A4C8D8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E92E4-FF9E-4271-89D3-F60B5364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4D30A-4F8D-46DE-832C-A74CD9D6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538EB-3A45-4349-A69D-6A695994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40915-E0C2-45C5-87AE-1AA4A41B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93E69-F6B8-4157-A5AE-3A07E25B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02514-62BE-4C2F-B699-1258307C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B1A3C-C56A-4E00-BECB-BE98D1CE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78650-EDDF-4798-A8E7-297DBA42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A9DD0-1776-4730-BFCA-76A289EC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E1A7-5CE5-4BF5-A842-88C7B53C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4D95D-3E7A-42B5-A0C5-0111C01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E7DD7-846E-41CE-B8CD-3924DDC1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32FC5-D8CD-43B2-B44F-BACB9579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402C6-A86A-42F2-AAF1-A777E2DA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19452-19B0-471C-88D3-0187B27E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7B4577-0B8F-429D-856F-6492A857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880853-6362-4B74-888B-D6A21D5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73FCFF-3AF9-4D52-AC93-00E34823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1B792F-5430-4F79-9D5C-6FB86C6D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AC077B-594B-4284-A2F8-5E716AC8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0BAC-D8DA-43BC-A56B-EC503650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864327-E763-448A-BA02-9C07E3A3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973AF9-E75C-4D98-8D0A-8462DE07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337FEE-C64E-4335-A51D-9425106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FC8A10-06FF-4587-936B-5C75844E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115C46-C59D-4386-92FD-8F34AF00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4F7B4D-A02D-479C-8566-C5997B6A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8A151C-6340-4212-BA34-F9981345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28EFD-79AE-4006-A9A2-37E322AA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51730-D6E2-4D22-8074-5E3D3AD5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2BE48-24CB-4AF0-998E-5C31B6E9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C9EC-C397-45A6-9A40-8EFFF993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6097D-C5E3-418B-A33D-98F2DFC2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78CA7-85CD-4D11-BAE2-DCDD707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F959F-C22B-420B-A177-44E6E6C4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3DAEE-658A-4603-B494-891D8A64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C4388-64AB-4050-9D8D-ED0A384B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37B9A-C853-442A-940B-05EE93F5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5536C-BC98-4000-92B3-D9C3621F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F9B05-C764-4C2F-A564-89653149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353A7-576D-44BD-983D-E5AD9C8F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0E18A-07B4-4EF7-B32D-EB44A4AF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4E93-DBD3-4E81-A589-3BEC30EE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A5E40-56D3-4108-AC83-718A689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E8AAA-9BEC-4BDB-9B33-2E12ECA9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31EC4-0584-440A-A0D9-354551E0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D7465-3B54-4F58-BBB4-26BB1B4C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15C77-2B0D-473C-8074-782920F7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5B975-8301-401A-B9E8-C4F538CA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DFE15-F204-4218-ABC1-AF27AA52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C5752-EDE2-48FB-B618-52BA412B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E6290-4AAE-4C74-8E77-1F7EEF76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8CE08-5922-469B-8300-88B39CE5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BA0-4411-4514-BF2A-D9B6A80A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F312A-FE36-4BDF-B026-B73DF6E9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FB798-8546-425C-8D78-D10F4098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D8041-AF51-4009-9DB5-150A0E6E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6DA10-7E4B-4FEA-BB64-C96F1595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F06F7-F407-49EB-A1DE-4562520F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6C0D3-5E54-440E-9DBB-0E87E274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34674-08D3-4D18-89C7-A4678436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99262-6B87-4316-9967-848366A9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3F8CA0-3015-403A-891A-1F3671BA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EC6758-A476-4196-B1FC-0917F46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3D6A-0F1F-4548-839B-969AA13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E9304-DDB7-4383-9055-F4163626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C12B0-C4B4-4569-8002-9E15391A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78148-2596-4C29-BBEC-D04512C0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0793C2-3CE6-4D91-BF96-D9D7E699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19467E-0174-4064-9D20-276DEF6A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3CA732-FEC6-4D23-9397-BAAE18D9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4D84A9-907B-4BD1-A56B-CE2B21E2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0B92CE-3BFF-43D7-8598-A459F006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8E0B48-374C-4097-B6F3-49C33270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CDA90D-6750-4260-98CD-7AB32350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E8C-018D-4A29-83F3-9301CE94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29F3-22C1-4073-9241-A039E8C8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1EE75E-4F36-41FE-BD8C-84F0AE28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21DCB9-E4E0-410B-B92E-613D73F0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03D0C6-3985-43C9-9164-6873866E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7664E7-709D-49D0-84F9-6020C4D8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A236EF-18DD-4A78-A081-C24FE96B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E2F78-529B-4D6C-9A54-4466D7AE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64D0B-F9F0-486E-8D24-BFDEA1D3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1778CC-6BD8-4CA0-B8CE-271CCBF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7FACD-4874-4567-A562-B16CBFBD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FD8FA-F172-45F9-9EEF-08A16D6D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EC6-9E7A-4DFD-86DB-AAD51E6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C8B9A-3D88-4C6D-A0E8-66326DDF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EA17D-1DE8-419A-AFF9-DBFE3CB6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B846F-6A66-4FBE-B36A-39FAAA2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998BF-7B9E-41C8-9DF4-DB4B685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8D4EF-CEED-4FD7-B781-2FFD2CCF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E4BFE-CFC2-4BE6-B8FE-5E283A45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BCC66-A70F-4494-AA1E-2D35AB4C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5AE1EA-63A2-48D2-AC1A-AAD02C97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4C077D-3B5A-494D-A17A-FCD9121F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6B6132-FF31-43CF-AF3E-642E8FDB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790D-7DD6-4C29-9155-3CC0EB73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FE789D-5166-4B5F-9880-B494CEF7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BFA183-143C-409C-91D5-33F72354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0CC5CC-85D1-4D0A-8DB7-B05BC6CE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9C81F4-B2D2-4BBB-ADBE-58FF6C0E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C73631-C86E-40B0-BBBA-D1F25A57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5452F0-A3FC-4EED-8E1F-E58603C7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411397-1B4F-4F55-9ACB-5C9CADBE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2BD9D5-2B54-435A-98DD-BC94C430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F3A3E6-CEF2-487D-B1A3-AD943FF2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75B1A68-41CD-4D1D-AA82-5FD5F9FF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D5BA-B0CB-4AF5-B58C-4280A976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C53FBD0-17CE-4293-8F86-1FF6416A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EAD743-7F90-48F9-96EE-3ABE1B9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A43B4A-2B4B-4599-B448-91B9FAAA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F77762-4789-4AF3-ABDF-A25ED0A7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78914A-7B82-493A-968C-D726DDDF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180435-FB15-453B-A3EA-7133D5E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9F9011-333A-4B96-AFB9-A817B52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E1FF71-A7A3-4705-976B-8A4E0DA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3756AA-E284-4DD6-B69C-6E9D057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F5CD74-5C7A-461B-A093-010D0706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49AF-B2F1-46D9-A5F3-E0F0C8D3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CB4FA87-6A07-4370-8257-D3166798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A61E2-6E5E-4039-A446-4720FB62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AEBDED-AE68-47C3-A84D-84DE5C80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99F76-B38C-4C09-8088-926F47A0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30FCF-C404-4D2D-B912-68558363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BD0A5-F072-43A0-8AA4-3F9245AE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456B7-18F9-4C59-914B-4882D585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A5725-1E1E-4EF5-8852-EDFBF5C9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D453B-D863-472D-A29C-56211EB2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48D60-9DEB-49B7-8CC2-A7D490D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B27B-9572-4765-87C3-7BC7A233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8ABA93-8A1F-4686-9C48-1CB7FDF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69E05-5CE9-4C0E-9394-D2CD1779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0420B-7DAA-4465-A1F4-94FE66E4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1BF61F-94FB-4AD5-B0AB-A56A54C6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616E2C-9949-45FE-BBD3-35DF3810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9438E6-04CE-4EF0-BA08-5770CE0C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F31828-9334-4C02-B699-AA403597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22AA8A-DAA4-4BE9-8AEE-C26004C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E8A449-C202-4E76-A8BD-FE614439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4EEC82-7E8C-42AB-9CA9-FFEEF76D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1012-ADA8-4F59-B936-687BA648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59227D-729A-4505-AA89-B0A89CE9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F4641E-7D3A-4B98-B085-8FB2D9D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B0FDA2-9EB1-4502-BF52-4999A742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447A59-191A-4027-BBD1-774CC407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E16137-C6BC-4597-853B-7B7605E8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0531-CB98-4486-9D2C-01DE7016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EF5E-F52E-4F8E-839E-B2A68C6E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62D6-994F-4E05-B6DB-79C769B1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645-A46A-4C76-8040-DEDDF6C6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84A1-214B-4E51-B5C5-F04F8B7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4433-85CF-4AC4-AF4F-FAC6C71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D456-0E90-40AD-8ECA-E21534A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877D8-CC4B-4821-AEA1-F510188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A5A6-13AC-46DE-8FA3-D19DA802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D339-932B-44A0-A375-5A619356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BB81-705B-4A4F-8FA5-ABDB3055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E608-6DE0-4DC9-B83F-687BD0FF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5D85-CBA0-42AF-A0D4-CCD32B8D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8F0A-504F-4B43-BC3B-74E553BB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6F0-EC96-4BE6-8195-7FBDFED6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653BA-1DE7-4A50-8EA6-AB820DA7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C111-5DF8-4688-B3D3-6A7A6A78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BCC0-F47B-4A34-A2F0-7E054638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4C5E-9CF4-48C5-ADAB-E1D87D8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9629-E359-49DC-922E-DBC7D17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27E4-F824-4113-83B7-E13E9E5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5B9D-6F9B-4504-A7B9-F7D44C6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361EF-2B7C-4E3C-89E0-AC51026A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3754-83F3-4F39-B31A-7C1B0BBA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79CFB-8A08-4019-A3DF-14B3650D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69A-A343-4AB8-B12B-5BBA9DB9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49C02-E72D-4CA4-A696-1A7E2DC7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4B46A-2B6F-4CFF-82B9-7422B0FB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B8C05-630D-47EC-AC88-5D5C464A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20363-303F-4F62-8C9E-91C408B9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E2DD5-C547-4599-AF14-9CCD06F0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58EF2-8704-44AF-A5A4-BF7B3193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EFB58-EA1E-494F-85DB-0E3142B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48C53-0B08-453A-9AA0-8AA1846E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47A91-6CE0-4BED-BDC9-D9226A7F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237DA-5CDF-4183-A3F2-7D4A87D3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EC8-3B71-435F-B9C7-BEB25202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4D24D-4C8E-47E1-9924-033A0625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30C19-3723-48B3-B3F3-726C245D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1B19-529D-4AE4-9B99-004A612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C067-73D0-4ACA-A913-83F2E4B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8C39C-88E2-478E-978B-76935AF0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B1883-58C9-486D-A55B-ED7AE842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32BCD-B07F-42DE-AB16-E46D7DD1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7D24-ABE4-404B-B785-67A53EFE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FDBDE-C6B8-4253-BC5A-01215AE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97456-8ABF-42CF-A545-87B6AC9F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62E-0274-4C41-990C-1DB13500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F1E5F-1DBA-4F07-AAA5-5C9D68D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D3F3-4C0C-44E0-BC98-D61BF5BC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1CFB-59CB-4E4A-8A1B-A7080566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AF8B9-CD8E-4312-BEA8-B8563490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71EB2-84DF-43EF-995C-8B42FAA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AE3CB-06EE-4AAF-84C8-EB36233C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08E66-BB90-484E-9189-3955E366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72D82-7317-415A-AEA8-F1D33C2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32B3A-4A33-4102-8C0F-FE1C09E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B30D-88B6-4CF4-AFD6-4FE1FA2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473-CAC1-4B88-A430-74C1DD3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3F9D2-E991-4541-9704-010E8ED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B1110-68BF-4462-A8E1-4F5D42DB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D8BBC-21E7-48CF-9DEC-6E1EF610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6EBF-D879-4E46-AF5D-F78A1C67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C751B-B966-4384-8A89-F0C54B7D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3743C-E56C-44DA-B17D-8945617C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ADC25-7971-4DFF-AF12-E0B42E38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39FF0-47B9-4C9E-83A6-E41216E3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9287C-4CFB-46F9-B330-A7B39997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5D267-8B35-4D12-B2B1-F8607B26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34B-0C9E-4ECA-A983-0E01B60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E7BD0-55AD-4715-ABF3-7F571698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40BC9-D58B-4F9E-B90F-19993E9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92FD6-AC64-4268-BB28-3B506032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4053A-50F2-463E-828C-4DC4F88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E0DEE-1224-4342-AB11-4A0CDFE5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A1FBF-663A-4283-9EFF-777D1552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AD95D-D016-4C25-9D1D-0F686E72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59D1A-750F-44B6-99A5-ECBE4BD4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5EE1A-CEE4-4909-ACE7-13FFD3CC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160B7-DC1E-4C28-ADAB-DF36064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7DB-0383-458B-AC8C-6171DA2914F7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8698-6165-480F-AC20-7D77768C6D79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8229-D394-4E31-A15A-1212A4382E34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FE4F-A141-4B47-9E71-5F075ABF72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FA7D-20A5-4945-BC67-FB82D67955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07E-D5B8-4BC9-9B52-E33DADE718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93EF-3782-4CF1-A567-319412624A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B62-4F8F-4D29-B716-8850F136228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B653-69F7-4BB6-AB82-5D12C58067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5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4C33-1E83-4432-A633-CC7998C714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38A-FD75-482D-8222-74FD94C32B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3135-2665-4745-85C6-7CEBD6EC07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sldNum" idx="5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498C-272D-473C-9283-0D2277BB9D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ftr" idx="6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6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6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491C-A84C-492F-9B8D-C5676A492C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6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6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6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D7F9-AF55-4580-A380-1EA1DDE5DF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8E14-FFAB-405B-B7B7-F11A95FFF8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80A5-C6E1-4701-B33C-B79674576E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F50A-9E1B-4CF8-BB38-DBE787CC65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9DAF-A40E-4104-8300-44CBF17E7B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6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240C-AC29-43BB-85A7-0D35F3535E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2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D2C1-B769-452B-85D5-3419AAF7AAF5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15DC-7409-4C6D-BF1D-7001B89ACA01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docs.cntd.ru/document/zakon-rf-ob-obrazovanii-v-rossijskoj-federacii" TargetMode="External"/><Relationship Id="rId3" Type="http://schemas.openxmlformats.org/officeDocument/2006/relationships/hyperlink" Target="http://www.consultant.ru/document/cons_doc_LAW_111395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festival.1september.ru/articles/627448/" TargetMode="External"/><Relationship Id="rId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16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07280" cy="25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Здоровьесбережение на уроках системно-деятельностной направленности: методы и приемы работы</a:t>
            </a:r>
            <a:endParaRPr b="1" lang="en-US" sz="28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714240" y="4357800"/>
            <a:ext cx="8105760" cy="2023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Verdana"/>
              </a:rPr>
              <a:t>Лядова Наталья Владимировн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Verdana"/>
              </a:rPr>
              <a:t>ведущий научный сотрудник отела сопровождения ФГОС,  канд.мед.наук, доц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Verdana"/>
              </a:rPr>
              <a:t>ГБУ ДПО «Институт развития образова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Verdana"/>
              </a:rPr>
              <a:t>Пермского кра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Arial"/>
              </a:rPr>
              <a:t>Пермь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едагогические аспекты урока, способствующие здоровьесбере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Выбор оптимального соотношения между такими составляющими урока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- трудность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(нагрузка, напряженность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насыщенность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разными видами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эмоциональный фон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урока,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7" descr="i?id=351185153-15-72&amp;n=21"/>
          <p:cNvPicPr/>
          <p:nvPr/>
        </p:nvPicPr>
        <p:blipFill>
          <a:blip r:embed="rId1"/>
          <a:stretch/>
        </p:blipFill>
        <p:spPr>
          <a:xfrm>
            <a:off x="6516720" y="1341360"/>
            <a:ext cx="1871640" cy="1884600"/>
          </a:xfrm>
          <a:prstGeom prst="rect">
            <a:avLst/>
          </a:prstGeom>
          <a:ln w="0">
            <a:noFill/>
          </a:ln>
        </p:spPr>
      </p:pic>
      <p:pic>
        <p:nvPicPr>
          <p:cNvPr id="1064" name="Диаграмма 4" descr=""/>
          <p:cNvPicPr/>
          <p:nvPr/>
        </p:nvPicPr>
        <p:blipFill>
          <a:blip r:embed="rId2"/>
          <a:stretch/>
        </p:blipFill>
        <p:spPr>
          <a:xfrm>
            <a:off x="4521240" y="2873520"/>
            <a:ext cx="4565520" cy="380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68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68" fill="hold"/>
                                        <p:tgtEl>
                                          <p:spTgt spid="10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68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Психологические аспекты урока, способствующие здоровьесбере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794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100"/>
                </a:solidFill>
                <a:latin typeface="Arial"/>
              </a:rPr>
              <a:t>Соз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100"/>
                </a:solidFill>
                <a:latin typeface="Arial"/>
              </a:rPr>
              <a:t>доброжелательной, твор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100"/>
                </a:solidFill>
                <a:latin typeface="Arial"/>
              </a:rPr>
              <a:t>атмосферы сотруднич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100"/>
                </a:solidFill>
                <a:latin typeface="Arial"/>
              </a:rPr>
              <a:t>ситуации успеха, положительного эмоционального фо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100"/>
                </a:solidFill>
                <a:latin typeface="Arial"/>
              </a:rPr>
              <a:t>благоприятного психологического клим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100"/>
                </a:solidFill>
                <a:latin typeface="Arial"/>
              </a:rPr>
              <a:t>использование приемов стимуляции внешней (за счет похвалы, поддержки) и внутренней (за счет поддержания интереса, стремления ученика больше и глубже узнать)  мотив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Рисунок 4" descr="post17560.jpg"/>
          <p:cNvPicPr/>
          <p:nvPr/>
        </p:nvPicPr>
        <p:blipFill>
          <a:blip r:embed="rId1"/>
          <a:stretch/>
        </p:blipFill>
        <p:spPr>
          <a:xfrm>
            <a:off x="6156360" y="1484280"/>
            <a:ext cx="259560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10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Психологические аспекты урока, </a:t>
            </a:r>
            <a:br>
              <a:rPr sz="2400"/>
            </a:b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пособствующие здоровьесбережению предполаг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00"/>
                </a:solidFill>
                <a:latin typeface="Arial"/>
              </a:rPr>
              <a:t>демократичный (не авторитарный) стиль педагогического общения, недопущение речевой агрессии, использование технологий ненасильственного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100"/>
                </a:solidFill>
                <a:latin typeface="Arial"/>
              </a:rPr>
              <a:t>не запугивающее поведение, позы, жесты, этикетная речь уч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00"/>
                </a:solidFill>
                <a:latin typeface="Arial"/>
              </a:rPr>
              <a:t>адекватное оценивание учебных достижений; продуманная, взвешенная учителем и воспринимаемая учеником как справедливая оценка его деятельности (использование поощрительно-накопительной системы оценивания учебных достижений, формирующего оценивания на основе критериальной системы оценив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00"/>
                </a:solidFill>
                <a:latin typeface="Arial"/>
              </a:rPr>
              <a:t>энтузиазм, увлеченность учителя, педагога своим предметом, высокая степень подготовленности учителя к уроку, занятию, артист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5" descr="imgpreviewCAHX93S8"/>
          <p:cNvPicPr/>
          <p:nvPr/>
        </p:nvPicPr>
        <p:blipFill>
          <a:blip r:embed="rId1"/>
          <a:stretch/>
        </p:blipFill>
        <p:spPr>
          <a:xfrm>
            <a:off x="6732720" y="-100080"/>
            <a:ext cx="2411280" cy="180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68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68" fill="hold"/>
                                        <p:tgtEl>
                                          <p:spTgt spid="10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68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68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зиолого-гигиенические аспекты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66596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Построение урока с учетом возрастной физиологической динамики работоспособности (изменение характера, степени сложности заданий,  видов и тем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деятельности по ходу уро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Вовлечение, по возможности, б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льшего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сенсорных систем (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анализаторов) в процессе</a:t>
            </a: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усвоения, запоминания материала уча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Использование высококачественных наглядных пособий, дидактического материала, ТСО </a:t>
            </a:r>
            <a:r>
              <a:rPr b="1" lang="ru-RU" sz="1600" spc="-1" strike="noStrike">
                <a:solidFill>
                  <a:srgbClr val="7f0179"/>
                </a:solidFill>
                <a:latin typeface="Arial"/>
              </a:rPr>
              <a:t>(в соответствии с нормами времени их использования на уроке. СанПиН 2.4.2.2821-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Рисунок 3" descr="mozgi-dlya-sz-snizu5.png"/>
          <p:cNvPicPr/>
          <p:nvPr/>
        </p:nvPicPr>
        <p:blipFill>
          <a:blip r:embed="rId1"/>
          <a:stretch/>
        </p:blipFill>
        <p:spPr>
          <a:xfrm>
            <a:off x="6442200" y="3716280"/>
            <a:ext cx="2701800" cy="2233800"/>
          </a:xfrm>
          <a:prstGeom prst="rect">
            <a:avLst/>
          </a:prstGeom>
          <a:ln w="0">
            <a:noFill/>
          </a:ln>
        </p:spPr>
      </p:pic>
      <p:pic>
        <p:nvPicPr>
          <p:cNvPr id="1074" name="Рисунок 4" descr="clip_image_2.png"/>
          <p:cNvPicPr/>
          <p:nvPr/>
        </p:nvPicPr>
        <p:blipFill>
          <a:blip r:embed="rId2"/>
          <a:stretch/>
        </p:blipFill>
        <p:spPr>
          <a:xfrm>
            <a:off x="6284880" y="1413000"/>
            <a:ext cx="285912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68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68" fill="hold"/>
                                        <p:tgtEl>
                                          <p:spTgt spid="10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68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68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686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зиолого-гигиенические аспекты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6372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беспечение индивидуального подхода на основе знания и уче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 типологических свойств нервной системы (силы, уравновешенности, подвижности нервных процессо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 состояния индивидуального здоров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 психологических особенностей личности, склонностей и задатков учеников к той или иной 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018e"/>
                </a:solidFill>
                <a:latin typeface="Arial"/>
              </a:rPr>
              <a:t>контроль со стороны учителя осанки детей, поддержания правильной рабочей п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Рисунок 6" descr="IZOO-copy.jpg"/>
          <p:cNvPicPr/>
          <p:nvPr/>
        </p:nvPicPr>
        <p:blipFill>
          <a:blip r:embed="rId1"/>
          <a:stretch/>
        </p:blipFill>
        <p:spPr>
          <a:xfrm>
            <a:off x="6300720" y="2924280"/>
            <a:ext cx="2533680" cy="1700280"/>
          </a:xfrm>
          <a:prstGeom prst="rect">
            <a:avLst/>
          </a:prstGeom>
          <a:ln w="0">
            <a:noFill/>
          </a:ln>
        </p:spPr>
      </p:pic>
      <p:pic>
        <p:nvPicPr>
          <p:cNvPr id="1078" name="Рисунок 6" descr="53L8nw407e0.jpg"/>
          <p:cNvPicPr/>
          <p:nvPr/>
        </p:nvPicPr>
        <p:blipFill>
          <a:blip r:embed="rId2"/>
          <a:stretch/>
        </p:blipFill>
        <p:spPr>
          <a:xfrm>
            <a:off x="6372360" y="4986360"/>
            <a:ext cx="2660400" cy="1871640"/>
          </a:xfrm>
          <a:prstGeom prst="rect">
            <a:avLst/>
          </a:prstGeom>
          <a:ln w="0">
            <a:noFill/>
          </a:ln>
        </p:spPr>
      </p:pic>
      <p:pic>
        <p:nvPicPr>
          <p:cNvPr id="1079" name="Рисунок 7" descr="IMG_3362.JPG"/>
          <p:cNvPicPr/>
          <p:nvPr/>
        </p:nvPicPr>
        <p:blipFill>
          <a:blip r:embed="rId3"/>
          <a:stretch/>
        </p:blipFill>
        <p:spPr>
          <a:xfrm>
            <a:off x="6372360" y="98100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68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68" fill="hold"/>
                                        <p:tgtEl>
                                          <p:spTgt spid="10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68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68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зиолого-гигиенические аспект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ередование разных видов преподавания - словесного, наглядного, аудиовизуального, выполнения самостоятельной работы - должно происходить не позже, чем через 10-15 минут (не менее трёх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4-7 различных видов учебной деятельности (слушание, рассказ, изучение наглядных пособий, ответы на вопросы, решение задач,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 момента насту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утомления - 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двигательных 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(физкультминутки раз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правленности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трогое соблю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должительности урока, окончание со зво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Рисунок 5" descr="008_2.jpg"/>
          <p:cNvPicPr/>
          <p:nvPr/>
        </p:nvPicPr>
        <p:blipFill>
          <a:blip r:embed="rId1"/>
          <a:stretch/>
        </p:blipFill>
        <p:spPr>
          <a:xfrm>
            <a:off x="4500720" y="4149720"/>
            <a:ext cx="4363920" cy="2016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68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68" fill="hold"/>
                                        <p:tgtEl>
                                          <p:spTgt spid="10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68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68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0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0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зиолого-гигиенические аспект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беспечение оптимальных санитарно-гигиен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условий в учебном помещен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 оптимальный воздушно-тепл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и световой режи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 эргономичная ростомерная шко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мебель, красивый дизай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 обеспечение питьевого режи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- возможность соблюдения ли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беспечение профилактики травмат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(безопасное оборудование, инструктаж по ТБ при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 оборудованием, в зале, на спортивной площад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снование: Санитарно-эпидемиологические требования к условиям и организации обучения в общеобразовательных учреждениях (СанПиН 2.4.2.2821 – 2010).</a:t>
            </a:r>
            <a:r>
              <a:rPr b="1" lang="ru-RU" sz="2000" spc="-1" strike="noStrike">
                <a:solidFill>
                  <a:srgbClr val="440044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Рисунок 3" descr="2014-09-25 11-34-14.JPG"/>
          <p:cNvPicPr/>
          <p:nvPr/>
        </p:nvPicPr>
        <p:blipFill>
          <a:blip r:embed="rId1"/>
          <a:stretch/>
        </p:blipFill>
        <p:spPr>
          <a:xfrm>
            <a:off x="6300720" y="2637000"/>
            <a:ext cx="2506680" cy="1879560"/>
          </a:xfrm>
          <a:prstGeom prst="rect">
            <a:avLst/>
          </a:prstGeom>
          <a:ln w="0">
            <a:noFill/>
          </a:ln>
        </p:spPr>
      </p:pic>
      <p:pic>
        <p:nvPicPr>
          <p:cNvPr id="1086" name="Рисунок 4" descr="b6efb116e6b97325864cd7015a7829b7.jpg"/>
          <p:cNvPicPr/>
          <p:nvPr/>
        </p:nvPicPr>
        <p:blipFill>
          <a:blip r:embed="rId2"/>
          <a:stretch/>
        </p:blipFill>
        <p:spPr>
          <a:xfrm>
            <a:off x="6227640" y="1341360"/>
            <a:ext cx="2011320" cy="141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Критерии оценки урока с позиции здоровьесбереж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324000" y="1447920"/>
            <a:ext cx="84960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сохранение интереса и учебной мотивации у обучающихс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отсутствие раннего развития утомлени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отсутствие снижения внимания, работоспособности обучающихся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отсутствие стрессированност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хорошее настроение, удовлетворенность работо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повышение умственно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работоспособности н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последующих уроках, занятиях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89" name="Рисунок 3" descr="deti4.jpg"/>
          <p:cNvPicPr/>
          <p:nvPr/>
        </p:nvPicPr>
        <p:blipFill>
          <a:blip r:embed="rId1"/>
          <a:stretch/>
        </p:blipFill>
        <p:spPr>
          <a:xfrm>
            <a:off x="5762520" y="5084640"/>
            <a:ext cx="33814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Методы диагностики состояния обучающихс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Метод оценки умственной работоспособности (внимания) с помощью буквенных корректурных таблиц Анфимо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Метод оценки состояния утомления на основе теппинг-теста Ильин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Arial"/>
              </a:rPr>
              <a:t>Метод оценки самочувствия, активности, настроения на основе теста «САН» и др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92" name="Рисунок 4" descr="мир.jpg"/>
          <p:cNvPicPr/>
          <p:nvPr/>
        </p:nvPicPr>
        <p:blipFill>
          <a:blip r:embed="rId1"/>
          <a:stretch/>
        </p:blipFill>
        <p:spPr>
          <a:xfrm>
            <a:off x="3348000" y="479736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1093" name="Рисунок 5" descr="htmlconvd-fC1aD7_html_m32f62437.png"/>
          <p:cNvPicPr/>
          <p:nvPr/>
        </p:nvPicPr>
        <p:blipFill>
          <a:blip r:embed="rId2"/>
          <a:stretch/>
        </p:blipFill>
        <p:spPr>
          <a:xfrm>
            <a:off x="6443640" y="4653000"/>
            <a:ext cx="2330640" cy="1984320"/>
          </a:xfrm>
          <a:prstGeom prst="rect">
            <a:avLst/>
          </a:prstGeom>
          <a:ln w="0">
            <a:noFill/>
          </a:ln>
        </p:spPr>
      </p:pic>
      <p:pic>
        <p:nvPicPr>
          <p:cNvPr id="1094" name="Рисунок 6" descr="img17.jpg"/>
          <p:cNvPicPr/>
          <p:nvPr/>
        </p:nvPicPr>
        <p:blipFill>
          <a:blip r:embed="rId3"/>
          <a:stretch/>
        </p:blipFill>
        <p:spPr>
          <a:xfrm>
            <a:off x="250920" y="4797360"/>
            <a:ext cx="2622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овременный урок –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это урок высокой культур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3311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ясь к каждому уроку, занятию, расписывая его «партитуру», учителю следует продумывать и эти рекомендуемые подходы.  Такая организация урока позволит обеспечить его высокую эффективн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также – сохранить здоровь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 обучающимся, так и само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7" name="Рисунок 3" descr="Рисунок1ьб.jpg"/>
          <p:cNvPicPr/>
          <p:nvPr/>
        </p:nvPicPr>
        <p:blipFill>
          <a:blip r:embed="rId1"/>
          <a:stretch/>
        </p:blipFill>
        <p:spPr>
          <a:xfrm>
            <a:off x="6443640" y="189000"/>
            <a:ext cx="2579760" cy="1722240"/>
          </a:xfrm>
          <a:prstGeom prst="rect">
            <a:avLst/>
          </a:prstGeom>
          <a:ln w="0">
            <a:noFill/>
          </a:ln>
        </p:spPr>
      </p:pic>
      <p:pic>
        <p:nvPicPr>
          <p:cNvPr id="1098" name="Рисунок 6" descr="IMG_3376.JPG"/>
          <p:cNvPicPr/>
          <p:nvPr/>
        </p:nvPicPr>
        <p:blipFill>
          <a:blip r:embed="rId2"/>
          <a:stretch/>
        </p:blipFill>
        <p:spPr>
          <a:xfrm>
            <a:off x="6348240" y="4581360"/>
            <a:ext cx="2795760" cy="2097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0" y="159984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ro.perm.r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тал ФГОС ООО; Приоритеты/ Внедрение ВФСК Г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ел сопровождения ФГОС. Тел. 8(342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1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zdip@list.r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, 892264793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Picture 5" descr="logo2"/>
          <p:cNvPicPr/>
          <p:nvPr/>
        </p:nvPicPr>
        <p:blipFill>
          <a:blip r:embed="rId2"/>
          <a:stretch/>
        </p:blipFill>
        <p:spPr>
          <a:xfrm>
            <a:off x="108000" y="11592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нтернет-ресурсы,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Федеральный закон «Об образовании в Российской Федерации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редакция, действующая с 24 июля 2015 года)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ocs.cntd.ru/document/zakon-rf-ob-obrazovanii-v-rossijskoj-federacii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учреждениях. Санитарно-эпидемиологические правила и нормативы»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onsultant.ru/document/cons_doc_LAW_111395/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50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018e"/>
                </a:solidFill>
                <a:latin typeface="Calibri"/>
              </a:rPr>
              <a:t>Анализ проведения урока с позиции здоровьесбережения [Электронный ресурс] </a:t>
            </a:r>
            <a:r>
              <a:rPr b="0" lang="ru-RU" sz="1600" spc="-1" strike="noStrike">
                <a:solidFill>
                  <a:srgbClr val="95018e"/>
                </a:solidFill>
                <a:latin typeface="Calibri"/>
              </a:rPr>
              <a:t>– Режим доступа: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http:// school6nojabrsk.narod. ru (дата обращения: 11.04.2012). Источник: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i-sv.com/publ/1/zdorovesberezhenie_na_uroke/14-1-0-7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50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018e"/>
                </a:solidFill>
                <a:latin typeface="Calibri"/>
              </a:rPr>
              <a:t>Школа здоровья [Электронный ресурс]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Режим доступа: http://Schools.Keldysh.ru (дата обращения: 11.04.2012) 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si-sv.com/publ/1/zdorovesberezhenie_na_uroke/14-1-0-7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50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018e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festival.1september.ru/articles/627448/</a:t>
            </a:r>
            <a:r>
              <a:rPr b="0" lang="ru-RU" sz="1600" spc="-1" strike="noStrike">
                <a:solidFill>
                  <a:srgbClr val="95018e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50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018e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50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50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7" descr="j0305257"/>
          <p:cNvPicPr/>
          <p:nvPr/>
        </p:nvPicPr>
        <p:blipFill>
          <a:blip r:embed="rId1"/>
          <a:stretch/>
        </p:blipFill>
        <p:spPr>
          <a:xfrm>
            <a:off x="2050920" y="1197000"/>
            <a:ext cx="935280" cy="1065240"/>
          </a:xfrm>
          <a:prstGeom prst="rect">
            <a:avLst/>
          </a:prstGeom>
          <a:ln w="0">
            <a:noFill/>
          </a:ln>
        </p:spPr>
      </p:pic>
      <p:sp>
        <p:nvSpPr>
          <p:cNvPr id="1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3" name="Содержимое 11" descr="i (4).jpg"/>
          <p:cNvPicPr/>
          <p:nvPr/>
        </p:nvPicPr>
        <p:blipFill>
          <a:blip r:embed="rId2"/>
          <a:stretch/>
        </p:blipFill>
        <p:spPr>
          <a:xfrm>
            <a:off x="468360" y="2349360"/>
            <a:ext cx="2820960" cy="1863720"/>
          </a:xfrm>
          <a:prstGeom prst="rect">
            <a:avLst/>
          </a:prstGeom>
          <a:ln w="0">
            <a:noFill/>
          </a:ln>
        </p:spPr>
      </p:pic>
      <p:pic>
        <p:nvPicPr>
          <p:cNvPr id="1104" name="Рисунок 12" descr="0006-008-urok-fizkultury-xxi-veka_627.jpg"/>
          <p:cNvPicPr/>
          <p:nvPr/>
        </p:nvPicPr>
        <p:blipFill>
          <a:blip r:embed="rId3"/>
          <a:stretch/>
        </p:blipFill>
        <p:spPr>
          <a:xfrm>
            <a:off x="684360" y="4797360"/>
            <a:ext cx="35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105" name="Рисунок 13" descr="2014-09-26 12-35-56 - копия.JPG"/>
          <p:cNvPicPr/>
          <p:nvPr/>
        </p:nvPicPr>
        <p:blipFill>
          <a:blip r:embed="rId4"/>
          <a:stretch/>
        </p:blipFill>
        <p:spPr>
          <a:xfrm>
            <a:off x="6804000" y="895320"/>
            <a:ext cx="2340000" cy="2793960"/>
          </a:xfrm>
          <a:prstGeom prst="rect">
            <a:avLst/>
          </a:prstGeom>
          <a:ln w="0">
            <a:noFill/>
          </a:ln>
        </p:spPr>
      </p:pic>
      <p:pic>
        <p:nvPicPr>
          <p:cNvPr id="1106" name="Рисунок 14" descr="545456.jpg"/>
          <p:cNvPicPr/>
          <p:nvPr/>
        </p:nvPicPr>
        <p:blipFill>
          <a:blip r:embed="rId5"/>
          <a:stretch/>
        </p:blipFill>
        <p:spPr>
          <a:xfrm>
            <a:off x="5435640" y="4770360"/>
            <a:ext cx="3416400" cy="2087640"/>
          </a:xfrm>
          <a:prstGeom prst="rect">
            <a:avLst/>
          </a:prstGeom>
          <a:ln w="0">
            <a:noFill/>
          </a:ln>
        </p:spPr>
      </p:pic>
      <p:pic>
        <p:nvPicPr>
          <p:cNvPr id="1107" name="Рисунок 15" descr="i (13).jpg"/>
          <p:cNvPicPr/>
          <p:nvPr/>
        </p:nvPicPr>
        <p:blipFill>
          <a:blip r:embed="rId6"/>
          <a:stretch/>
        </p:blipFill>
        <p:spPr>
          <a:xfrm>
            <a:off x="-108000" y="0"/>
            <a:ext cx="2629080" cy="1428840"/>
          </a:xfrm>
          <a:prstGeom prst="rect">
            <a:avLst/>
          </a:prstGeom>
          <a:ln w="0">
            <a:noFill/>
          </a:ln>
        </p:spPr>
      </p:pic>
      <p:pic>
        <p:nvPicPr>
          <p:cNvPr id="1108" name="Рисунок 16" descr="post17560.jpg"/>
          <p:cNvPicPr/>
          <p:nvPr/>
        </p:nvPicPr>
        <p:blipFill>
          <a:blip r:embed="rId7"/>
          <a:stretch/>
        </p:blipFill>
        <p:spPr>
          <a:xfrm>
            <a:off x="3276720" y="0"/>
            <a:ext cx="3458880" cy="2303640"/>
          </a:xfrm>
          <a:prstGeom prst="rect">
            <a:avLst/>
          </a:prstGeom>
          <a:ln w="0">
            <a:noFill/>
          </a:ln>
        </p:spPr>
      </p:pic>
      <p:pic>
        <p:nvPicPr>
          <p:cNvPr id="1109" name="Рисунок 17" descr="e4db3604eb0e.jpg"/>
          <p:cNvPicPr/>
          <p:nvPr/>
        </p:nvPicPr>
        <p:blipFill>
          <a:blip r:embed="rId8"/>
          <a:stretch/>
        </p:blipFill>
        <p:spPr>
          <a:xfrm>
            <a:off x="3635280" y="2421000"/>
            <a:ext cx="2470320" cy="2303280"/>
          </a:xfrm>
          <a:prstGeom prst="rect">
            <a:avLst/>
          </a:prstGeom>
          <a:ln w="0">
            <a:noFill/>
          </a:ln>
        </p:spPr>
      </p:pic>
      <p:pic>
        <p:nvPicPr>
          <p:cNvPr id="1110" name="Рисунок 18" descr="08-04-2058523.jpg"/>
          <p:cNvPicPr/>
          <p:nvPr/>
        </p:nvPicPr>
        <p:blipFill>
          <a:blip r:embed="rId9"/>
          <a:stretch/>
        </p:blipFill>
        <p:spPr>
          <a:xfrm>
            <a:off x="6203880" y="3357720"/>
            <a:ext cx="865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24000" y="27813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72c"/>
                </a:solidFill>
                <a:latin typeface="Calibri"/>
              </a:rPr>
              <a:t>«Забота о здоровье ребёнка – это не просто комплекс санитарно-гигиенических норм и правил…и не свод требований к режиму, питанию, труду, отдыху. Это прежде всего забота о гармоничной полноте всех физических и духовных сил, и венцом этой гармонии является радость творчества» </a:t>
            </a:r>
            <a:br>
              <a:rPr sz="2400"/>
            </a:br>
            <a:r>
              <a:rPr b="1" lang="ru-RU" sz="2400" spc="-1" strike="noStrike">
                <a:solidFill>
                  <a:srgbClr val="19672c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19672c"/>
                </a:solidFill>
                <a:latin typeface="Calibri"/>
              </a:rPr>
              <a:t>В.А.Сухомлинский</a:t>
            </a:r>
            <a:r>
              <a:rPr b="1" lang="ru-RU" sz="2400" spc="-1" strike="noStrike">
                <a:solidFill>
                  <a:srgbClr val="19672c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9" name="Picture 5" descr="D:\USERS\МАМА\Мои рисунки\ЗОЖ Правила\iтрн.jpeg"/>
          <p:cNvPicPr/>
          <p:nvPr/>
        </p:nvPicPr>
        <p:blipFill>
          <a:blip r:embed="rId1"/>
          <a:stretch/>
        </p:blipFill>
        <p:spPr>
          <a:xfrm>
            <a:off x="2268360" y="4653000"/>
            <a:ext cx="3241800" cy="2001960"/>
          </a:xfrm>
          <a:prstGeom prst="rect">
            <a:avLst/>
          </a:prstGeom>
          <a:ln w="0">
            <a:noFill/>
          </a:ln>
        </p:spPr>
      </p:pic>
      <p:sp>
        <p:nvSpPr>
          <p:cNvPr id="1040" name="Rectangle 6"/>
          <p:cNvSpPr/>
          <p:nvPr/>
        </p:nvSpPr>
        <p:spPr>
          <a:xfrm>
            <a:off x="1979640" y="333360"/>
            <a:ext cx="676908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Verdana"/>
              </a:rPr>
              <a:t>«Чтобы сделать ребенка </a:t>
            </a:r>
            <a:r>
              <a:rPr b="1" i="1" lang="ru-RU" sz="28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Verdana"/>
              </a:rPr>
              <a:t>умным и рассудительным – сделайте его креп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Verdana"/>
              </a:rPr>
              <a:t>и здоровым» </a:t>
            </a:r>
            <a:r>
              <a:rPr b="1" i="1" lang="ru-RU" sz="2800" spc="-1" strike="noStrike">
                <a:solidFill>
                  <a:srgbClr val="008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Verdana"/>
              </a:rPr>
              <a:t>/Жан Жак Руссо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Рисунок 3" descr="john-jacques-rousseau-i4.jpg"/>
          <p:cNvPicPr/>
          <p:nvPr/>
        </p:nvPicPr>
        <p:blipFill>
          <a:blip r:embed="rId2"/>
          <a:stretch/>
        </p:blipFill>
        <p:spPr>
          <a:xfrm>
            <a:off x="179280" y="189000"/>
            <a:ext cx="14763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20844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285480" y="285840"/>
            <a:ext cx="84294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В концепции новых  федеральных государственных образовательных стандартов ДО, НОО, ООО и С(П)О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озиции </a:t>
            </a: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здоровьесбережения и здоровьеформирования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первые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обрели в общем образовании собственную значимость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- получили структурированное воплощен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Что же нового привнесли ФГОС в решение проблемы сохранения здоровья, формирования здорового образа жизни обучающихся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alibri"/>
              </a:rPr>
              <a:t>Во-1-х, - это новые смыслы образования: «от успешности школы (по результатам ГИА, ЕГЭ) к успехам ребенка, развивающегося как личность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alibri"/>
              </a:rPr>
              <a:t>во-2-х, - построение образования на основе системно-деятельностного обучения, наполненного личностным смысл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в-3-х, - это обязательное наличие самой программы формирования здорового и безопасного образа жизни у школьников разных ступеней обу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в 4-х, - обозначены направления (блоки) деятельности учителя, ОУ по формированию здорового и безопасного образа жизни школьников (читай - по здоровьеформированию и здоровьесбережению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в 5-х, - достаточно четко сформулированы цели и задачи деятельности учителя, ОУ по формированию ЗОЖ на разных ступенях обуче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в 6-Х, - включение в БУП НОО 10 часов внеурочной деятельности, предполагающей, в том числе, спортивно-оздоровительное направление, которое в первую очередь может быть использовано для привития любви к подвижному, спортивному образу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Исходя из логики новых стандартов, следует ожидать, что с их введением образование должно стать </a:t>
            </a:r>
            <a:r>
              <a:rPr b="1" lang="ru-RU" sz="2800" spc="-1" strike="noStrike">
                <a:solidFill>
                  <a:srgbClr val="33cc33"/>
                </a:solidFill>
                <a:latin typeface="Calibri"/>
              </a:rPr>
              <a:t>более безопасным, здоровьеформирующим и здоровьесберегающим, </a:t>
            </a: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гарантирующим защиту учеников от перегрузок, формирование личности безопасного типа, умеющую заботиться о своем здоров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8" name="Рисунок 6" descr="IMG_3362.JPG"/>
          <p:cNvPicPr/>
          <p:nvPr/>
        </p:nvPicPr>
        <p:blipFill>
          <a:blip r:embed="rId1"/>
          <a:stretch/>
        </p:blipFill>
        <p:spPr>
          <a:xfrm>
            <a:off x="179280" y="4005360"/>
            <a:ext cx="3035520" cy="2276280"/>
          </a:xfrm>
          <a:prstGeom prst="rect">
            <a:avLst/>
          </a:prstGeom>
          <a:ln w="0">
            <a:noFill/>
          </a:ln>
        </p:spPr>
      </p:pic>
      <p:pic>
        <p:nvPicPr>
          <p:cNvPr id="1049" name="Рисунок 7" descr="IMG_0802.JPG"/>
          <p:cNvPicPr/>
          <p:nvPr/>
        </p:nvPicPr>
        <p:blipFill>
          <a:blip r:embed="rId2"/>
          <a:stretch/>
        </p:blipFill>
        <p:spPr>
          <a:xfrm>
            <a:off x="3348000" y="3429000"/>
            <a:ext cx="2700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0" name="Рисунок 9" descr="2014-09-26 13-23-18.JPG"/>
          <p:cNvPicPr/>
          <p:nvPr/>
        </p:nvPicPr>
        <p:blipFill>
          <a:blip r:embed="rId3"/>
          <a:stretch/>
        </p:blipFill>
        <p:spPr>
          <a:xfrm>
            <a:off x="6156360" y="4554360"/>
            <a:ext cx="2784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2788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Рациональная организация урока с позиции здоровьесбережения </a:t>
            </a:r>
            <a:br>
              <a:rPr sz="3200"/>
            </a:b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означает,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9672c"/>
                </a:solidFill>
                <a:latin typeface="Calibri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он построен с учетом физиологической динамики умственной работоспособности детей разного возраст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обучение на уроке происходит в зоне интересной для учащегося деятельности,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такой урок не приводит к раннему развитию утомления и снижению работоспособности учащихс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такой урок не являе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стрессогенным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3" name="Picture 5" descr="Thinking Schoolgirl Royalty Free Stock Photo"/>
          <p:cNvPicPr/>
          <p:nvPr/>
        </p:nvPicPr>
        <p:blipFill>
          <a:blip r:embed="rId1"/>
          <a:srcRect l="16985" t="0" r="8024" b="51989"/>
          <a:stretch/>
        </p:blipFill>
        <p:spPr>
          <a:xfrm>
            <a:off x="0" y="115920"/>
            <a:ext cx="1403280" cy="1265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6" descr="F:\USERS\МАМА\Мои рисунки\Уроки в школе\i (9).jpg"/>
          <p:cNvPicPr/>
          <p:nvPr/>
        </p:nvPicPr>
        <p:blipFill>
          <a:blip r:embed="rId2"/>
          <a:stretch/>
        </p:blipFill>
        <p:spPr>
          <a:xfrm>
            <a:off x="5867280" y="4911840"/>
            <a:ext cx="24498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едагогические аспекты урока, способствующие здоровьесбере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Отбор содержания обучения, соответствующего возрастным психо-физиологическим возможностям, сенситивному периоду развития детей, наполненное жизненным смыс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Использование эффективных природосообразных педагогических технологий, обеспечивающих субъектность ученика, индивидуализированных по содержанию, уровню нагрузки, темпам учебно-познавательной деятельности школьников, по методам работы с разными детьми, то есть образовательную технологию делает потенциально здоровьесберегающей личностно-ориентированное обучение на основе системно-деятельностного под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5e"/>
                </a:solidFill>
                <a:latin typeface="Arial"/>
              </a:rPr>
              <a:t>Включение в тему урока содержания, касающегося здоровья, ЗОЖ (использование воспитательного потенциала урока для формирования правильных представлений, установок, касающихся сохранения здоровья, соблюдения правил здорового образа жизн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7" descr="rus-11-3"/>
          <p:cNvPicPr/>
          <p:nvPr/>
        </p:nvPicPr>
        <p:blipFill>
          <a:blip r:embed="rId1"/>
          <a:stretch/>
        </p:blipFill>
        <p:spPr>
          <a:xfrm>
            <a:off x="7230960" y="189000"/>
            <a:ext cx="1913040" cy="126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10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3628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едагогические аспекты урока, способствующие здоровьесбере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пользование методи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группового обучения, игрового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коллективного способа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пользование метод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пособствующих активизации инициати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 творческого самовыражения самих  учащихся, таких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        –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метода свободного выбора (свободная беседа, выбор действия, способа действия, способа взаимодействия, варианта домашнего задания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       –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активных методов (ученики в роли учителя, обсуждение в группах, ролевая игра, дискуссия, диалоговое обучение, ученик как исследователь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       –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методов, направленных на   самопознание и развитие, в том числе, методов самооценки и взаимооценки.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5" descr="Zdorove"/>
          <p:cNvPicPr/>
          <p:nvPr/>
        </p:nvPicPr>
        <p:blipFill>
          <a:blip r:embed="rId1"/>
          <a:stretch/>
        </p:blipFill>
        <p:spPr>
          <a:xfrm>
            <a:off x="7164360" y="1125360"/>
            <a:ext cx="2340000" cy="1752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0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Лядова</cp:lastModifiedBy>
  <dcterms:modified xsi:type="dcterms:W3CDTF">2015-12-02T16:18:35Z</dcterms:modified>
  <cp:revision>408</cp:revision>
  <dc:subject/>
  <dc:title>Оразование и здоровье. Школа, содействующая укреплению здоровья</dc:title>
</cp:coreProperties>
</file>