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C69-3642-47DC-BF11-62BC876CFE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ы КПК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для тьюторов-андрогогов «Тьюторское сопровождение введения в ФГОС дошкольного образования в образовательных организациях региона» в объеме 72 часов – обучение прошли 32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для заведующих и заместителей заведующих ДОО «Менеджмент в дошкольном образовании»: в объеме 72часов 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для педагогов ДОО «Современное дошкольное образование в условиях введения ФГОС: сохраняя традиции к инновациям» в объеме 16; 24;48; 72 час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ажировки в ДОУ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МАДОУ «Детский сад № 59» г. Березники по теме «Создание эффективных психолого-педагогических условий,  направленных  на индивидуальное развитие детей с учетом их образовательных потребностей»;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МАДОУ «Добрянский детский сад № 15» г.Добрянка по теме «Разработка и реализация модели взаимодействия дошкольной организации с родителями воспитанников и социальными партнерами в условиях введения ФГОС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МДОУ «Лобановский детский сад» Пермский район по теме «Создание эффективных психолого-педагогических условий,  направленных  на индивидуальное развитие детей с учетом их образовательных потребностей: коррекционно-профилактическая работа»;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МАДОУ «Детский сад № 14» г. Губаха по теме «Технология совместной деятельности педагога с детьми»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МБДОУ «ЦРР- детский сад № 11» г. Кунгур «Разработка и реализация модели взаимодействия дошкольной организации с родителями воспитанников и социальными партнерами в условиях введения ФГОС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вторские семинар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ловия и механизмы деятельности ДОО по внедрению ФГОС дошкольного образования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ьное развитие педагогов в условиях введения ФГОС ДО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ализация ФГОС средствами технологии интеллектуально-творческого развития детей дошкольного возраста» «Сказочные лабиринты игры» (В.В. Воскобович, Сп-б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конструирования и робототехники в дошкольном образовании в условиях введения ФГОС ДО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ГОС дошкольного образования: разработка основной образовательной программы  и модернизация образовательной среды ДОО» (И.Л. Кириллов, Москв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DE3-9B44-4C9B-B93E-8A548050D0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тивные модели построения образовательной и развивающей среды в аспекте ФГ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механизмы деятельности ДОО по введению ФГОС дошко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етодической работы, обеспечивающей сопровождение введения ФГ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и модели взаимодействия дошкольной организации с родителями воспитанников и  социальными партнерами в условиях введения ФГ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ых психолого-педагогических условий,  направленных  на индивидуальное развитие детей с учетом их образователь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ультурные практики, методики, формы организации образовательной деятельности с детьми до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зации  и индивидуализация детей дошкольного возраста в актуальных для них видах деятельности и образовательных областях (общение, игра, познавательно-исследовательская деятель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технологии дошкольного образования, реализуемые в ООП ДО (информационные, проектные, развивающие, игровы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стояния образовательной среды ДОО в условиях подготовки введения ФГ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е образовательные технологии развития детей дошкольного возраста в условиях реализации ООП 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 ДОО внутренней системы оценки качества дошко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379-01A4-4D64-98BF-47B66060B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рамках конференции проведены дискуссионные площадки, круглые столы по тематике ФГОС ДО и развитию негосударственного сектора по оказанию услуг дошкольного образования.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анных мероприятиях приняло участие более 250 человек – работники дошкольных образовательных организаций, частных образовательных организаций, родителей и других заинтересованных лиц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искуссионная площадка «Профессиональная компетентность педагога – гарантия качества образовательных результатов», «Использование современных игровых технологий для развития произвольности у детей старшего дошкольного возраста» (мастер – класс), «Индивидуальное сопровождение развития детей с учетом гендерного подхода в образовании» (мастер – класс), «Формирование в дошкольной организации внутренней оценки качества дошкольного образования» (мастер – класс), «Проблемы развития детей с ОВЗ и перспективы их решения» (круглый стол), «Право на образование особого ребенка: проблемы и возможности» (круглый стол), «Современные технологии психолого –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едагогической работы с детьми дошкольного возраста на примере ПМК «Диалог»  (мастер – кла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0162-3DAB-48DD-AB29-78E4BE388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3CC-3C62-47DA-9441-CEBF9C95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E61-009C-49C5-8A9F-62F06239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375-35FD-4DF0-A5F0-325B7334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337-F2C0-41D3-82C0-4CB74F77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C126-FC68-49DF-B20C-B4803300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6F2-1CC4-44CA-B941-0FD9056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FEFD-EE2C-46ED-949D-84EA897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E222-4249-4A29-BAC6-B4D2F0D8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2484-12DA-4B8B-9C84-8265F916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F595-CBB8-4808-9D9A-78D9C71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9592-A688-4C0A-B649-14131EB0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FD9-F4D4-498A-9E9C-7CA19CDA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5E0-E40B-492B-B3AC-4A48363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3E6A-F87D-4B5A-B61B-C818C2B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FA60-0496-4D44-9FF8-0ACDD469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7576-9B54-4E0C-895E-705C86B9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F85E-99E4-4B87-AAF5-DBCE051F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41CF-E46C-47FE-B0B1-4163B54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5EE8-3483-4B41-B380-1B73682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7516-6423-42A7-A593-7C5DC23F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B424-68C9-41FD-B3CC-30CB6F1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74E8-E85A-4706-9785-D5DCA09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A53-7691-47D9-ABD8-8E670AE9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4012-FA81-4640-8442-621F069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D86F-7C5D-43F7-BDE3-C58B531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B358-4E07-4881-AF4D-48E2C76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E99B-183F-42CB-A1E3-179B715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D311-EF09-45D3-B0F9-F6C142D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FFD2-565C-481B-9F04-D1FD0996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30F5-B535-43A5-A5D7-2D5B90CA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E58-C58C-420A-BC3F-75572C1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15C-1363-4856-A4AD-AFD66D6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A6D-67F2-4337-AFDA-C62F46E8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C42-1A3C-4C93-990B-F3161C1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3A7-6316-4D3E-BAB1-F5FF325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C1D-AF5B-458C-B96A-C2DC07D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2B7-C106-4FCC-8DE4-786D924F76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c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Блокноты ФГОС(1).jpg"/>
          <p:cNvPicPr/>
          <p:nvPr/>
        </p:nvPicPr>
        <p:blipFill>
          <a:blip r:embed="rId2"/>
          <a:stretch/>
        </p:blipFill>
        <p:spPr>
          <a:xfrm>
            <a:off x="539640" y="0"/>
            <a:ext cx="817272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610F-EE31-4B72-A609-8EE08925FF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Диплом_победителя_5 номинаций_утверждение2.jpg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s://upload.wikimedia.org/wikipedia/commons/8/8f/Coat_of_Arms_of_Perm_oblast.png"/>
          <p:cNvPicPr/>
          <p:nvPr/>
        </p:nvPicPr>
        <p:blipFill>
          <a:blip r:embed="rId3"/>
          <a:stretch/>
        </p:blipFill>
        <p:spPr>
          <a:xfrm>
            <a:off x="250920" y="260280"/>
            <a:ext cx="561960" cy="108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7AE-FD5E-4F82-8FB6-69A5514320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ОГИ ДЕЯТЕЛЬНОСТ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ЕРАЛЬНОЙ СТАЖИРОВОЧНОЙ ПЛОЩАД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МСКОГО КРАЯ в 2014 год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700280"/>
            <a:ext cx="871560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недрение федерального государственного стандарта дошкольного образования с использованием государственно-общественного управления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идорова Л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меститель министра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.02.2015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9. «обучение и повышение квалификации педагогических и управленческих работников системы образования по государственно-общественному управлению образованием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4000" y="1857240"/>
          <a:ext cx="8572320" cy="3443400"/>
        </p:xfrm>
        <a:graphic>
          <a:graphicData uri="http://schemas.openxmlformats.org/drawingml/2006/table">
            <a:tbl>
              <a:tblPr/>
              <a:tblGrid>
                <a:gridCol w="1857240"/>
                <a:gridCol w="1670040"/>
                <a:gridCol w="1728720"/>
                <a:gridCol w="1573200"/>
                <a:gridCol w="17431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финанс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заключенных контра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оплаченных контра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ьзовано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3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3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3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5120"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ого к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5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5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5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5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8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8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8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роприятия по направлению 1.9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13840" y="1285560"/>
            <a:ext cx="86439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 курсов и их проведение по теме «Современное дошкольное образование в условиях введения ФГОС: сохраняя традиции к инновация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жировки в ДОО – базовых площад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практические конфер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ая стажировка по те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нтеграция систем дошкольного и школь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на опыте Фран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ские и мотодологические семинары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ализация ФГОС средствами технологии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о-творческого развития детей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возраста «Сказочные лабиринты игры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В. Воскобович, Сп-б); «ФГОС дошко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: разработка основной образователь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 и модернизация образовательной сре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О» (И.Л. Кириллов, Моск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IMG_6132"/>
          <p:cNvPicPr/>
          <p:nvPr/>
        </p:nvPicPr>
        <p:blipFill>
          <a:blip r:embed="rId1"/>
          <a:stretch/>
        </p:blipFill>
        <p:spPr>
          <a:xfrm>
            <a:off x="285840" y="4262400"/>
            <a:ext cx="3357360" cy="226224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165" name="Picture 3" descr=""/>
          <p:cNvPicPr/>
          <p:nvPr/>
        </p:nvPicPr>
        <p:blipFill>
          <a:blip r:embed="rId2"/>
          <a:srcRect l="0" t="5801" r="0" b="0"/>
          <a:stretch/>
        </p:blipFill>
        <p:spPr>
          <a:xfrm>
            <a:off x="5715000" y="1989000"/>
            <a:ext cx="30002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28440" y="428760"/>
            <a:ext cx="77468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жировки и курсы повышения квалификации для педагогов и руководителей ДОО из регионов РФ (всего 11 регион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бинары по темам «Современное дошкольное образование в условиях введения ФГОС», «Подходы к оценке качества дошкольного образования в условиях введения ФГОС ДО»; 459 точек доступа городов Ханты-Мансийского округ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C:\Users\Д\Desktop\2012\от Чистяковой\Фото\Итоговый семинар\IMG_20141216_103322.jpg"/>
          <p:cNvPicPr/>
          <p:nvPr/>
        </p:nvPicPr>
        <p:blipFill>
          <a:blip r:embed="rId1"/>
          <a:srcRect l="0" t="0" r="8692" b="0"/>
          <a:stretch/>
        </p:blipFill>
        <p:spPr>
          <a:xfrm>
            <a:off x="357120" y="264312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Д\Desktop\2012\от Чистяковой\Фото\Итоговый семинар\стекляный мольберт.JPG"/>
          <p:cNvPicPr/>
          <p:nvPr/>
        </p:nvPicPr>
        <p:blipFill>
          <a:blip r:embed="rId2"/>
          <a:srcRect l="14583" t="0" r="0" b="0"/>
          <a:stretch/>
        </p:blipFill>
        <p:spPr>
          <a:xfrm>
            <a:off x="2714760" y="357192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5214960" y="2643120"/>
            <a:ext cx="35719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28800" y="907920"/>
          <a:ext cx="7964280" cy="4764240"/>
        </p:xfrm>
        <a:graphic>
          <a:graphicData uri="http://schemas.openxmlformats.org/drawingml/2006/table">
            <a:tbl>
              <a:tblPr/>
              <a:tblGrid>
                <a:gridCol w="3138480"/>
                <a:gridCol w="4825800"/>
              </a:tblGrid>
              <a:tr h="54900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дагоги и специалисты Пермского кр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дагоги и специалист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бъектов Р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1000">
                <a:tc gridSpan="2"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бразовательные мероприятия  по ФГОС ДО до 16 часов</a:t>
                      </a:r>
                      <a:br>
                        <a:rPr sz="1800"/>
                      </a:b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(семинары, вебинары, конферен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 gridSpan="2"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ПК, стажировки, рефлексивная практика по ФГОс ДО от 16  до 72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37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 gridSpan="2"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ПК по Г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 че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осква,  Ульяновская область,  Удмуртия,  Свердловская област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680">
                <a:tc gridSpan="2"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569  педагого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ри плане по конкурсной заявк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0 чел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2">
                  <a:txBody>
                    <a:bodyPr lIns="61920" rIns="61920" tIns="36000" bIns="360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убъекты РФ (всего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1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)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ов, Нижний Новгород, Петрозаводск, Новосибирск, Красноуфимск, Башкирия, Ханты-Мансийск, Москва,  Ульяновская область,  Удмуртия,  Свердл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946800" y="333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обучающих мероприятий при С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28800" y="142560"/>
            <a:ext cx="79423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зработаны методические рекомендации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плект материалов по подготовке введения ФГОС ДО (часть 1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развивающему взаимодействию педагогов с детьми дошкольного возраста в условиях введения ФГОС ДО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реализации основной общеобразовательной программы ДО на основе ФГОС ДО и примерной ООП Д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мониторингу качества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зработаны материа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ля проведения электронного мониторинга подготовки к введению ФГОС ДО, электронные системы внутренней оценки качества ДО в условиях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куплено 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ля организации предметно – пространственной развивающей среды в 62 ДОО на сумму 23 600 тыс. руб. (фед. бюджет – 13 500 тыс. руб., бюджет ПК – 10 100 тыс. руб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500040" y="4071960"/>
            <a:ext cx="2065320" cy="24782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2"/>
          <a:stretch/>
        </p:blipFill>
        <p:spPr>
          <a:xfrm>
            <a:off x="3214800" y="4143240"/>
            <a:ext cx="2444760" cy="21384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"/>
          <p:cNvPicPr/>
          <p:nvPr/>
        </p:nvPicPr>
        <p:blipFill>
          <a:blip r:embed="rId3"/>
          <a:srcRect l="18372" t="0" r="0" b="0"/>
          <a:stretch/>
        </p:blipFill>
        <p:spPr>
          <a:xfrm rot="273600">
            <a:off x="6222960" y="4241880"/>
            <a:ext cx="25686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я о достижении значений показателей результативности предоставления субсидии из федерального бюджета бюджету Пермского края на поддержку реализации мероприятий ФЦПРО на 2011-2015 годы в 2014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557360"/>
          <a:ext cx="8207280" cy="4145040"/>
        </p:xfrm>
        <a:graphic>
          <a:graphicData uri="http://schemas.openxmlformats.org/drawingml/2006/table">
            <a:tbl>
              <a:tblPr/>
              <a:tblGrid>
                <a:gridCol w="2879640"/>
                <a:gridCol w="1368360"/>
                <a:gridCol w="2232000"/>
                <a:gridCol w="1727280"/>
              </a:tblGrid>
              <a:tr h="48744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иница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усмотрено на отчетны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50840">
                <a:tc>
                  <a:txBody>
                    <a:bodyPr lIns="58320" rIns="5832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 «создание условий для распространения моделей государственно-общественного управления образованием и поддержка программ развития регионально-муниципальных систем дошкольного образов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оздана одна стажировочная площад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06760">
                <a:tc>
                  <a:txBody>
                    <a:bodyPr lIns="58320" rIns="5832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 «обучение и повышение квалификации педагогических и управленческих работников системы образования по государственно-общественному управлению образование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./ субъ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/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50 человек не менее чем из 6 регионов и 450 чел. из Пермского кр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69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120 чел. из 11 регионов и 1449 чел. – Пермский кр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каторы и показател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и на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428840"/>
          <a:ext cx="8318520" cy="4556160"/>
        </p:xfrm>
        <a:graphic>
          <a:graphicData uri="http://schemas.openxmlformats.org/drawingml/2006/table">
            <a:tbl>
              <a:tblPr/>
              <a:tblGrid>
                <a:gridCol w="327240"/>
                <a:gridCol w="6191280"/>
                <a:gridCol w="1225440"/>
                <a:gridCol w="574560"/>
              </a:tblGrid>
              <a:tr h="59436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я и его номер в ФЦПР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язательство (указанное в заявк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Доля школьников, которым предоставлена возможность обучаться в соответствии с основными современными требованиями, от общей численности школьников, 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67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Доля специалистов преподавательского и управленческого корпуса системы дошкольного, общего образования, обеспечивающих распространение современных моделей доступного и качественного образования, а также моделей региональных и муниципальных образовательных систем, обеспечивающих государственно-общественный характер управления образованием, от общего числа специалистов преподавательского и управленческого корпуса системы дошкольного и общего образования, 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8436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Доля образовательных систем субъектов и муниципалитетов Российской Федерации, охваченных процессами переподготовки и повышения квалификации преподавательского и управленческого корпуса системы дошкольного и общего образования на базе площадок, созданных для распространения современных моделей доступного и качественного образования, а также моделей региональных и муниципальных образовательных систем, обеспечивающих государственно-общественный характер управления образованием, от общего числа образовательных систем субъектов и муниципалитетов Российской Федерации, 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436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Доля учителей, участвующих в деятельности профессиональных сетевых сообществ и саморегулируемых организаций, и регулярно получающих в них профессиональную помощь и поддержку, от общей численности учителей, 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в сопряженных проекта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5840" y="1359000"/>
            <a:ext cx="85723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ПРИНЯЛИ УЧАСТИ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мониторинге деятельности СП с целью распространения моделей государственно-общественного управления образованием (ФГОУ РУДН) (письмо МОН РФ образовании и науки Российской Федерации от 18 августа 2014 г. № 08-1090 ДОО стажировочной площадк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проведении общественно-профессионального обсуждения оценки проекта по модернизации содержания педагогического образования в части внедрения стандарта профессиональной деятельности педагога (Московский городской психолого – педагогический университет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проекте «Распространение опыта работы тьюторов при сопровождении мероприятий по внедрению ФГОС ДО» (ООО «Простой.Ру) (письмо МОН РФ от 10 октября 2014 г. № 08-1467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интернет – конференции «Эффективный переход региональных систем дошкольного образования на деятельность в условиях ФГОС ДО» - доклад Н.Д. Чистяковой «Основные направления профессионального развития педагогических работников дошкольных образовательных организаций Пермского края: результаты и перспективы») (ООО «Простой.Ру» совместно с АНО «Статус»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И-сопровождение деятельности С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500120"/>
            <a:ext cx="8207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идеорол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C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№1.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mp4(479460149)     C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№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2.mp4(34958728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тьи в журнале «Умный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№ 37, сентябрь 2014, № 40, декабрь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уклеты на мероприятиях с педагогами, родительской общественностью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краевой августовский педсовет, выставки «Образование и карьера», «Умный ребенок»)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ы, достигнутые в Пермском крае по итогам деятельности СП в 2014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34100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. Можно констатиров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в Пермском крае тьюторских команд из педагогов и руководителей ДОО, обеспечивающих   повышение квалификации и сопровождение  внедрения ФГОС ДО.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воение формы КПК «стажировка», как современной и эффективной  формы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современной развивающей предметно-пространственной среды в ДОО в соответствии с ФГОС 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. Эффек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ность и осмысленность  руководителей, педагогов ДОО в процессах внедрения ФГОС Д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ивационная потребность руководителей, педагогов и специалистов ДОО в освоении новых образовательных технологий/практик  с детьми дошкольного возраста; современных  информационных технолог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форм государственно-общественного управления образованием в  ДОО Пермского кр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160" y="356760"/>
            <a:ext cx="78184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здание условий д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ляции инновацион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ыта Пермского кр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Решение проблем внедрения ФГОС 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стижение современного качества образования в ДО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редача опыта реализации государственно – общественного управления (ГОУ) в образовательных организациях Пермского кр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повышение квалификации педагогических и руководящих работников ДОО Пермского края и других регионов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разработка и апробация в 20 ДОО Пермского края отдельных направлений образовательных областей ФГОС Д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формирование в ДОО предметно-развив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500800" y="142920"/>
            <a:ext cx="3454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ирование деятельности СП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мского края в 2015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1389240"/>
          <a:ext cx="8642160" cy="4343400"/>
        </p:xfrm>
        <a:graphic>
          <a:graphicData uri="http://schemas.openxmlformats.org/drawingml/2006/table">
            <a:tbl>
              <a:tblPr/>
              <a:tblGrid>
                <a:gridCol w="301680"/>
                <a:gridCol w="6035400"/>
                <a:gridCol w="2305080"/>
              </a:tblGrid>
              <a:tr h="2289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е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 (пл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обучающих мероприятий по теме ФГОС ДО (в том числе в базовых ДОО) в различных фор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К – не менее 45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Ф – не менее 105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- организация обучающих мероприятий по теме ГОУ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К – не менее 15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Ф – не менее 30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программы переподготовки для педагогов ДОО в связи с переходом на профессиональный стандарт  педагога ДО, программ КПК с комплектом учебно-методических материалов для педагогов в соответствии с профстандарт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1программы переподготовки/2 программ К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1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методических рекомендаций по внедрению ФГОС ДО и пособия для родителей (их изд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3 разработок /1 сборник/1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89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ка оборудования для Д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20 Д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мониторинговых исследований по вопросам внедрения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61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И- сопровождение деятельности СП (создание многокомпанентных видеороликов, размещение информации в СМ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итогового мероприятия деятельности СП в 2014-2015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428480"/>
            <a:ext cx="820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Пермского края от 1 апреля 2014г. № СЭД-26-01-04-217 «Об организации работы стажировочной площадки в 2014 год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шение между Министерством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науки Российской Федерации и Правительством Пермского края от 16 июня 2014 г. № 08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7.24.0007 на предоставление  из федерального бюджета субсидии бюджету Пермского края на софинансирование мероприятий региональных программ развития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шение с ГБУ ДПО «Институт развития образования Пермского края»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25 апреля 2014 г. о сопровождении деятельности 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новление Правительства Пермского края от 15 августа 2014 г. № 810–п «О реализации региональных мероприятий ФЦПРО на 2011-2015 годы по направлению «Достижение во всех субъектах Российской Федерации стратегических ориентиров национальной образовательной инициативы «Наша новая школа» в 2014 год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базовых учреждений 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28480"/>
            <a:ext cx="820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. Детский сад № 67 г. Перми                     2.Детский сад № 233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. «Детский сад «Совушка»  г. Перми       5. Детский сад № 14 г. Губах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5. Детский сад № 59 г. Березники              6. Лобановский детский 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7. Детский сад № 15 г. Чернушка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Детский сад № 14 г.Ны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Ныробский детский сад Чердынского 10. Детский сад № 11 г.Кунгу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Детский сад № 31  Чайковского р-на 12. Ординский детский сад №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Детский сад № 8 Горнозаводского     14. Детский сад № 2 г.Охан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  Добрянский детский сад № 15           16. Детский сад № 55 г.Пер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7. Детский сад № 14 «Оляпка»                 18. Детский сад № 39  г.Лысь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Соликам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Детский сад  «Радуга»                            20. Детский сад № 176 г.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О Звезд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обязательств по Соглашению в 2014 году (финансовый аспек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4200" y="1623960"/>
          <a:ext cx="8786880" cy="3749760"/>
        </p:xfrm>
        <a:graphic>
          <a:graphicData uri="http://schemas.openxmlformats.org/drawingml/2006/table">
            <a:tbl>
              <a:tblPr/>
              <a:tblGrid>
                <a:gridCol w="1714680"/>
                <a:gridCol w="1785960"/>
                <a:gridCol w="1714320"/>
                <a:gridCol w="1785960"/>
                <a:gridCol w="17859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финанс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заключенных контра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оплаченных контра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ьзовано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48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86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86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86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0040"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0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0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03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03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52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90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89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89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роприяти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8. «создание условий для распространения моделей государственно-общественного управления образованием и поддержка программ развития регионально-муниципальных систем дошкольного образования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4200" y="1695600"/>
          <a:ext cx="8786880" cy="3749400"/>
        </p:xfrm>
        <a:graphic>
          <a:graphicData uri="http://schemas.openxmlformats.org/drawingml/2006/table">
            <a:tbl>
              <a:tblPr/>
              <a:tblGrid>
                <a:gridCol w="1765440"/>
                <a:gridCol w="1735200"/>
                <a:gridCol w="1714320"/>
                <a:gridCol w="1785960"/>
                <a:gridCol w="17859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финанс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заключенных контра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оплаченных контра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ьзовано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2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2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2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2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0040"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06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06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06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роприятия по направлению 1.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920" y="1449360"/>
            <a:ext cx="8461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сы повышения квалификации по государствен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енному управлению (обучено 568 челове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орник методических материалов «Внедрение институцио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ьных моделей ГОУ в муниципальном ДОО» (500 экз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региональная очно – заочная стажиров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о 20 управленческих проектов по ГОУ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«Ро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вляющего совета в  эффективном управлении сельской ДОО в условиях введения ФГО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О», «Развитие  управления кадрового потенциала в условиях введения ФГОС», «Созд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единого информационного образовательного  пространства ДОО в условиях реализац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ГОС ДО», «ГОУ в ДОО в условиях введения ФГОС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иторинг деятельности органов ГОУ в разных типах образовательных организаци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 анкетировании приняло участие 900 чел., 2 обучающих семинара, учебно-методические комплекты для специалистов ДОО  - 200 экз. и буклеты для общественников – 500 экз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Д\Desktop\2012\от Чистяковой\Фото\DSC_0012.JPG"/>
          <p:cNvPicPr/>
          <p:nvPr/>
        </p:nvPicPr>
        <p:blipFill>
          <a:blip r:embed="rId1"/>
          <a:srcRect l="0" t="0" r="5179" b="0"/>
          <a:stretch/>
        </p:blipFill>
        <p:spPr>
          <a:xfrm>
            <a:off x="6659640" y="1557360"/>
            <a:ext cx="2357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28440" y="356760"/>
            <a:ext cx="8001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урс управленческих проектов, обеспечивающих внедрение ФГОС ДО в ДОО Пермского края (52 проекта, 43 ДОО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о номинациям: Традиции и иннов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чу быть современным педагог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е горизонты – детям, Окружающая сред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ое сообщество: от цели к результа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Пермский краевой семей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уплено оборудование д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я   мероприятий СП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C:\Users\Д\Desktop\2012\от Чистяковой\Фото\Подведение итогов\DSCN7530.JPG"/>
          <p:cNvPicPr/>
          <p:nvPr/>
        </p:nvPicPr>
        <p:blipFill>
          <a:blip r:embed="rId1"/>
          <a:srcRect l="7692" t="0" r="0" b="11110"/>
          <a:stretch/>
        </p:blipFill>
        <p:spPr>
          <a:xfrm>
            <a:off x="6357960" y="1143000"/>
            <a:ext cx="2571840" cy="2714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C:\Users\evserebrennikova\AppData\Local\Microsoft\Windows\Temporary Internet Files\Content.Outlook\H7XKZOVV\IMG_0582.JPG"/>
          <p:cNvPicPr/>
          <p:nvPr/>
        </p:nvPicPr>
        <p:blipFill>
          <a:blip r:embed="rId2"/>
          <a:srcRect l="0" t="10533" r="0" b="0"/>
          <a:stretch/>
        </p:blipFill>
        <p:spPr>
          <a:xfrm>
            <a:off x="357120" y="392904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4" descr="&amp;Ocy;&amp;tcy;&amp;zcy;&amp;ycy;&amp;vcy;&amp;ycy; &amp;kcy; Canon LEGRIA HF R56 &quot; IC.tj - &amp;mcy;&amp;acy;&amp;rcy;&amp;kcy;&amp;iecy;&amp;tcy;"/>
          <p:cNvPicPr/>
          <p:nvPr/>
        </p:nvPicPr>
        <p:blipFill>
          <a:blip r:embed="rId3"/>
          <a:stretch/>
        </p:blipFill>
        <p:spPr>
          <a:xfrm>
            <a:off x="5143680" y="4286160"/>
            <a:ext cx="936360" cy="46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2" descr="SHARP LC-70LE857RU: &amp;tscy;&amp;iecy;&amp;ncy;&amp;acy;, &amp;kcy;&amp;ucy;&amp;pcy;&amp;icy;&amp;tcy;&amp;softcy; &amp;vcy; &amp;icy;&amp;ncy;&amp;tcy;&amp;iecy;&amp;rcy;&amp;ncy;&amp;iecy;&amp;tcy;-&amp;mcy;&amp;acy;&amp;gcy;&amp;acy;&amp;zcy;&amp;icy;&amp;ncy;&amp;iecy; &amp;Pcy;&amp;icy;&amp;ocy;&amp;ncy;&amp;iecy;&amp;rcy;. &amp;Ocy;&amp;bcy;&amp;zcy;&amp;ocy;&amp;rcy;, &amp;khcy;&amp;acy;&amp;rcy;&amp;acy;&amp;kcy;&amp;tcy;&amp;iecy;&amp;rcy;&amp;icy;&amp;scy;&amp;tcy;&amp;icy;&amp;kcy;&amp;icy; &amp;icy; &amp;ocy;&amp;tcy;&amp;zcy;&amp;ycy;&amp;vcy;&amp;ycy;."/>
          <p:cNvPicPr/>
          <p:nvPr/>
        </p:nvPicPr>
        <p:blipFill>
          <a:blip r:embed="rId4"/>
          <a:stretch/>
        </p:blipFill>
        <p:spPr>
          <a:xfrm>
            <a:off x="4500720" y="4929120"/>
            <a:ext cx="1439640" cy="89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1" descr="113221"/>
          <p:cNvPicPr/>
          <p:nvPr/>
        </p:nvPicPr>
        <p:blipFill>
          <a:blip r:embed="rId5"/>
          <a:srcRect l="0" t="0" r="0" b="6736"/>
          <a:stretch/>
        </p:blipFill>
        <p:spPr>
          <a:xfrm>
            <a:off x="6500880" y="4214880"/>
            <a:ext cx="858600" cy="80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7" descr="1775w"/>
          <p:cNvPicPr/>
          <p:nvPr/>
        </p:nvPicPr>
        <p:blipFill>
          <a:blip r:embed="rId6"/>
          <a:srcRect l="0" t="29164" r="0" b="30163"/>
          <a:stretch/>
        </p:blipFill>
        <p:spPr>
          <a:xfrm>
            <a:off x="6715080" y="5214960"/>
            <a:ext cx="158436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7" descr="Microsoft Surface Pro 3 i5 256gb - &amp;kcy;&amp;ucy;&amp;pcy;&amp;icy;&amp;tcy;&amp;softcy; &amp;pcy;&amp;lcy;&amp;acy;&amp;ncy;&amp;shcy;&amp;iecy;&amp;tcy; &amp;Scy;&amp;ucy;&amp;rcy;&amp;fcy;&amp;iecy;&amp;jcy;&amp;scy; &amp;Pcy;&amp;rcy;&amp;ocy; &amp;pcy;&amp;ocy; &amp;lcy;&amp;ucy;&amp;chcy;&amp;shcy;&amp;iecy;&amp;jcy; &amp;tscy;&amp;iecy;&amp;ncy;&amp;iecy;"/>
          <p:cNvPicPr/>
          <p:nvPr/>
        </p:nvPicPr>
        <p:blipFill>
          <a:blip r:embed="rId7"/>
          <a:stretch/>
        </p:blipFill>
        <p:spPr>
          <a:xfrm>
            <a:off x="7858080" y="4286160"/>
            <a:ext cx="1152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57160" y="356760"/>
            <a:ext cx="78184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азвития вариативных форм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о 3 обучающих семинара для поставщиков услуг ДО частного сектора (г. Пермь, Лысьва, Соликамс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семинар К.Чагина «Практики реш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 нехватки мест в муниципальных ДО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 и реализован краевой проек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ыездной воспитатель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дан сборник материалов из опы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по развитию вариативных форм Д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мском кра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ференция «Умный ребено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evserebrennikova\Desktop\2014\Выездной воспитатель\Защита проектов\фото 1.JPG"/>
          <p:cNvPicPr/>
          <p:nvPr/>
        </p:nvPicPr>
        <p:blipFill>
          <a:blip r:embed="rId1"/>
          <a:stretch/>
        </p:blipFill>
        <p:spPr>
          <a:xfrm>
            <a:off x="6000840" y="1500120"/>
            <a:ext cx="2911320" cy="2184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evserebrennikova\Desktop\2014\Выездной воспитатель\Семинары\Обложка_мин_образования_вариант2.jpg"/>
          <p:cNvPicPr/>
          <p:nvPr/>
        </p:nvPicPr>
        <p:blipFill>
          <a:blip r:embed="rId2"/>
          <a:stretch/>
        </p:blipFill>
        <p:spPr>
          <a:xfrm>
            <a:off x="5572080" y="3429000"/>
            <a:ext cx="3270240" cy="2281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evserebrennikova\Desktop\2014\Августовский педсовет\Умный ребенок\DSC06423.JPG"/>
          <p:cNvPicPr/>
          <p:nvPr/>
        </p:nvPicPr>
        <p:blipFill>
          <a:blip r:embed="rId3"/>
          <a:stretch/>
        </p:blipFill>
        <p:spPr>
          <a:xfrm>
            <a:off x="928800" y="4500720"/>
            <a:ext cx="313200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2:29:33Z</dcterms:created>
  <dc:creator>Голубцов Алексей Валерьевич</dc:creator>
  <dc:description/>
  <dc:language>en-US</dc:language>
  <cp:lastModifiedBy>Голубцов Алексей Валерьевич</cp:lastModifiedBy>
  <dcterms:modified xsi:type="dcterms:W3CDTF">2015-02-09T05:38:13Z</dcterms:modified>
  <cp:revision>61</cp:revision>
  <dc:subject/>
  <dc:title>Презентация PowerPoint</dc:title>
</cp:coreProperties>
</file>