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B99E-C2B9-4A67-B19B-19C12A73D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2B6E-3ED2-4D35-AA20-5EFFE474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1B0E-B322-48AA-9401-522C3A3BE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9B2B-3246-4263-B786-2585CCEEA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0B49-E324-4507-85FC-66913DBF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A2AB-C904-4587-85F1-3B1D0AC4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9C9A-20FD-4E4C-8D55-861D67F3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D50B-B033-4CC1-A6EF-EE42EB6D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1B5A-01FD-4E09-BFDF-6B736289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23F1-7E94-4CA4-8DF0-90931845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AF98-B384-4F7F-B124-8AE1F33A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7EA1-BB3B-46BE-824D-8B9DE5AB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EA42-25DE-4621-9E8C-48092C5C1D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Globex\Шаблоны для PowerPoint\#0040\Components\SC_01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471600" y="27000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Black"/>
              </a:rPr>
              <a:t>ВВЕДЕНИЕ ФГОС 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108000" y="912960"/>
            <a:ext cx="8928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Скругленный прямоугольник 3"/>
          <p:cNvSpPr/>
          <p:nvPr/>
        </p:nvSpPr>
        <p:spPr>
          <a:xfrm>
            <a:off x="142920" y="357120"/>
            <a:ext cx="4357800" cy="6286680"/>
          </a:xfrm>
          <a:custGeom>
            <a:avLst/>
            <a:gdLst>
              <a:gd name="textAreaLeft" fmla="*/ 212400 w 4357800"/>
              <a:gd name="textAreaRight" fmla="*/ 4145400 w 4357800"/>
              <a:gd name="textAreaTop" fmla="*/ 212400 h 6286680"/>
              <a:gd name="textAreaBottom" fmla="*/ 6074280 h 6286680"/>
            </a:gdLst>
            <a:ahLst/>
            <a:rect l="textAreaLeft" t="textAreaTop" r="textAreaRight" b="textAreaBottom"/>
            <a:pathLst>
              <a:path w="21600" h="31160">
                <a:moveTo>
                  <a:pt x="3600" y="0"/>
                </a:moveTo>
                <a:arcTo wR="3600" hR="3600" stAng="16200000" swAng="-5400000"/>
                <a:lnTo>
                  <a:pt x="0" y="27560"/>
                </a:lnTo>
                <a:arcTo wR="3600" hR="3600" stAng="10800000" swAng="-5400000"/>
                <a:lnTo>
                  <a:pt x="18000" y="3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Lucida Sans Unicode"/>
                <a:ea typeface="Lucida Sans Unicode"/>
              </a:rPr>
              <a:t>3</a:t>
            </a:r>
            <a:r>
              <a:rPr b="1" lang="en-US" sz="3200" spc="-1" strike="noStrike">
                <a:solidFill>
                  <a:srgbClr val="002060"/>
                </a:solidFill>
                <a:latin typeface="Lucida Sans Unicode"/>
                <a:ea typeface="Lucida Sans Unicode"/>
              </a:rPr>
              <a:t>.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Коррекция нарушений развития дет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Скругленный прямоугольник 4"/>
          <p:cNvSpPr/>
          <p:nvPr/>
        </p:nvSpPr>
        <p:spPr>
          <a:xfrm>
            <a:off x="4668840" y="299880"/>
            <a:ext cx="4357800" cy="6286680"/>
          </a:xfrm>
          <a:custGeom>
            <a:avLst/>
            <a:gdLst>
              <a:gd name="textAreaLeft" fmla="*/ 212400 w 4357800"/>
              <a:gd name="textAreaRight" fmla="*/ 4145400 w 4357800"/>
              <a:gd name="textAreaTop" fmla="*/ 212400 h 6286680"/>
              <a:gd name="textAreaBottom" fmla="*/ 6074280 h 6286680"/>
            </a:gdLst>
            <a:ahLst/>
            <a:rect l="textAreaLeft" t="textAreaTop" r="textAreaRight" b="textAreaBottom"/>
            <a:pathLst>
              <a:path w="21600" h="31160">
                <a:moveTo>
                  <a:pt x="3600" y="0"/>
                </a:moveTo>
                <a:arcTo wR="3600" hR="3600" stAng="16200000" swAng="-5400000"/>
                <a:lnTo>
                  <a:pt x="0" y="27560"/>
                </a:lnTo>
                <a:arcTo wR="3600" hR="3600" stAng="10800000" swAng="-5400000"/>
                <a:lnTo>
                  <a:pt x="18000" y="3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984807"/>
            </a:solidFill>
            <a:miter/>
          </a:ln>
          <a:effectLst>
            <a:outerShdw dist="38160" dir="108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1)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обеспечение коррекции нарушений развития </a:t>
            </a: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различных категорий детей с ограниченными возможностями здоровья, оказание им квалифицированной помощи в освоении Програм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2)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освоение детьми с ограниченными возможностями здоровья Программы</a:t>
            </a: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, их разностороннее развитие с учётом возрастных и индивидуальных особенностей и особых образовательных потребностей, социальной адапт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Группа 12"/>
          <p:cNvGrpSpPr/>
          <p:nvPr/>
        </p:nvGrpSpPr>
        <p:grpSpPr>
          <a:xfrm>
            <a:off x="4164120" y="609480"/>
            <a:ext cx="838080" cy="598680"/>
            <a:chOff x="4164120" y="609480"/>
            <a:chExt cx="838080" cy="598680"/>
          </a:xfrm>
        </p:grpSpPr>
        <p:sp>
          <p:nvSpPr>
            <p:cNvPr id="273" name="Блок-схема: узел 10"/>
            <p:cNvSpPr/>
            <p:nvPr/>
          </p:nvSpPr>
          <p:spPr>
            <a:xfrm>
              <a:off x="4714560" y="800640"/>
              <a:ext cx="287640" cy="4075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Блок-схема: узел 11"/>
            <p:cNvSpPr/>
            <p:nvPr/>
          </p:nvSpPr>
          <p:spPr>
            <a:xfrm>
              <a:off x="4164120" y="783720"/>
              <a:ext cx="287640" cy="4075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Арка 9"/>
            <p:cNvGrpSpPr/>
            <p:nvPr/>
          </p:nvGrpSpPr>
          <p:grpSpPr>
            <a:xfrm>
              <a:off x="4182120" y="609480"/>
              <a:ext cx="803880" cy="577800"/>
              <a:chOff x="4182120" y="609480"/>
              <a:chExt cx="803880" cy="577800"/>
            </a:xfrm>
          </p:grpSpPr>
          <p:pic>
            <p:nvPicPr>
              <p:cNvPr id="276" name="Арка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182120" y="609480"/>
                <a:ext cx="803880" cy="57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4234320" y="651960"/>
                <a:ext cx="699480" cy="42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8" name="Группа 13"/>
          <p:cNvGrpSpPr/>
          <p:nvPr/>
        </p:nvGrpSpPr>
        <p:grpSpPr>
          <a:xfrm>
            <a:off x="4143240" y="5572080"/>
            <a:ext cx="839880" cy="598680"/>
            <a:chOff x="4143240" y="5572080"/>
            <a:chExt cx="839880" cy="598680"/>
          </a:xfrm>
        </p:grpSpPr>
        <p:sp>
          <p:nvSpPr>
            <p:cNvPr id="279" name="Блок-схема: узел 14"/>
            <p:cNvSpPr/>
            <p:nvPr/>
          </p:nvSpPr>
          <p:spPr>
            <a:xfrm>
              <a:off x="4695120" y="5763960"/>
              <a:ext cx="288000" cy="40680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Блок-схема: узел 15"/>
            <p:cNvSpPr/>
            <p:nvPr/>
          </p:nvSpPr>
          <p:spPr>
            <a:xfrm>
              <a:off x="4143240" y="5747040"/>
              <a:ext cx="288000" cy="40680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Арка 16"/>
            <p:cNvGrpSpPr/>
            <p:nvPr/>
          </p:nvGrpSpPr>
          <p:grpSpPr>
            <a:xfrm>
              <a:off x="4157280" y="5572080"/>
              <a:ext cx="811440" cy="577080"/>
              <a:chOff x="4157280" y="5572080"/>
              <a:chExt cx="811440" cy="577080"/>
            </a:xfrm>
          </p:grpSpPr>
          <p:pic>
            <p:nvPicPr>
              <p:cNvPr id="282" name="Арка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4157280" y="5572080"/>
                <a:ext cx="811440" cy="57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4213440" y="5615640"/>
                <a:ext cx="7009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4" name="Группа 17"/>
          <p:cNvGrpSpPr/>
          <p:nvPr/>
        </p:nvGrpSpPr>
        <p:grpSpPr>
          <a:xfrm>
            <a:off x="4143240" y="3214800"/>
            <a:ext cx="839880" cy="598320"/>
            <a:chOff x="4143240" y="3214800"/>
            <a:chExt cx="839880" cy="598320"/>
          </a:xfrm>
        </p:grpSpPr>
        <p:sp>
          <p:nvSpPr>
            <p:cNvPr id="285" name="Блок-схема: узел 18"/>
            <p:cNvSpPr/>
            <p:nvPr/>
          </p:nvSpPr>
          <p:spPr>
            <a:xfrm>
              <a:off x="4695120" y="3408120"/>
              <a:ext cx="288000" cy="40500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Блок-схема: узел 19"/>
            <p:cNvSpPr/>
            <p:nvPr/>
          </p:nvSpPr>
          <p:spPr>
            <a:xfrm>
              <a:off x="4143240" y="3391560"/>
              <a:ext cx="288000" cy="40500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Арка 20"/>
            <p:cNvGrpSpPr/>
            <p:nvPr/>
          </p:nvGrpSpPr>
          <p:grpSpPr>
            <a:xfrm>
              <a:off x="4157280" y="3214800"/>
              <a:ext cx="811440" cy="574200"/>
              <a:chOff x="4157280" y="3214800"/>
              <a:chExt cx="811440" cy="574200"/>
            </a:xfrm>
          </p:grpSpPr>
          <p:pic>
            <p:nvPicPr>
              <p:cNvPr id="288" name="Арка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4157280" y="3214800"/>
                <a:ext cx="811440" cy="57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9" name=""/>
              <p:cNvSpPr/>
              <p:nvPr/>
            </p:nvSpPr>
            <p:spPr>
              <a:xfrm>
                <a:off x="4213440" y="3260520"/>
                <a:ext cx="700920" cy="4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0" name="Группа 21"/>
          <p:cNvGrpSpPr/>
          <p:nvPr/>
        </p:nvGrpSpPr>
        <p:grpSpPr>
          <a:xfrm>
            <a:off x="4143240" y="2000160"/>
            <a:ext cx="839880" cy="598680"/>
            <a:chOff x="4143240" y="2000160"/>
            <a:chExt cx="839880" cy="598680"/>
          </a:xfrm>
        </p:grpSpPr>
        <p:sp>
          <p:nvSpPr>
            <p:cNvPr id="291" name="Блок-схема: узел 22"/>
            <p:cNvSpPr/>
            <p:nvPr/>
          </p:nvSpPr>
          <p:spPr>
            <a:xfrm>
              <a:off x="4695120" y="2192400"/>
              <a:ext cx="288000" cy="40644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Блок-схема: узел 23"/>
            <p:cNvSpPr/>
            <p:nvPr/>
          </p:nvSpPr>
          <p:spPr>
            <a:xfrm>
              <a:off x="4143240" y="2175480"/>
              <a:ext cx="288000" cy="40644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Арка 24"/>
            <p:cNvGrpSpPr/>
            <p:nvPr/>
          </p:nvGrpSpPr>
          <p:grpSpPr>
            <a:xfrm>
              <a:off x="4157280" y="2000160"/>
              <a:ext cx="811440" cy="576360"/>
              <a:chOff x="4157280" y="2000160"/>
              <a:chExt cx="811440" cy="576360"/>
            </a:xfrm>
          </p:grpSpPr>
          <p:pic>
            <p:nvPicPr>
              <p:cNvPr id="294" name="Арка 24" descr=""/>
              <p:cNvPicPr/>
              <p:nvPr/>
            </p:nvPicPr>
            <p:blipFill>
              <a:blip r:embed="rId4"/>
              <a:stretch/>
            </p:blipFill>
            <p:spPr>
              <a:xfrm>
                <a:off x="4157280" y="2000160"/>
                <a:ext cx="8114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5" name=""/>
              <p:cNvSpPr/>
              <p:nvPr/>
            </p:nvSpPr>
            <p:spPr>
              <a:xfrm>
                <a:off x="4213440" y="2044080"/>
                <a:ext cx="700920" cy="42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6" name="Группа 25"/>
          <p:cNvGrpSpPr/>
          <p:nvPr/>
        </p:nvGrpSpPr>
        <p:grpSpPr>
          <a:xfrm>
            <a:off x="4143240" y="4429080"/>
            <a:ext cx="839880" cy="598680"/>
            <a:chOff x="4143240" y="4429080"/>
            <a:chExt cx="839880" cy="598680"/>
          </a:xfrm>
        </p:grpSpPr>
        <p:sp>
          <p:nvSpPr>
            <p:cNvPr id="297" name="Блок-схема: узел 26"/>
            <p:cNvSpPr/>
            <p:nvPr/>
          </p:nvSpPr>
          <p:spPr>
            <a:xfrm>
              <a:off x="4695120" y="4623840"/>
              <a:ext cx="288000" cy="4039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Блок-схема: узел 27"/>
            <p:cNvSpPr/>
            <p:nvPr/>
          </p:nvSpPr>
          <p:spPr>
            <a:xfrm>
              <a:off x="4143240" y="4606920"/>
              <a:ext cx="288000" cy="4039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Арка 28"/>
            <p:cNvGrpSpPr/>
            <p:nvPr/>
          </p:nvGrpSpPr>
          <p:grpSpPr>
            <a:xfrm>
              <a:off x="4157280" y="4429080"/>
              <a:ext cx="811440" cy="581400"/>
              <a:chOff x="4157280" y="4429080"/>
              <a:chExt cx="811440" cy="581400"/>
            </a:xfrm>
          </p:grpSpPr>
          <p:pic>
            <p:nvPicPr>
              <p:cNvPr id="300" name="Арка 28" descr=""/>
              <p:cNvPicPr/>
              <p:nvPr/>
            </p:nvPicPr>
            <p:blipFill>
              <a:blip r:embed="rId5"/>
              <a:stretch/>
            </p:blipFill>
            <p:spPr>
              <a:xfrm>
                <a:off x="4157280" y="4429080"/>
                <a:ext cx="811440" cy="58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>
                <a:off x="4213440" y="4476600"/>
                <a:ext cx="70092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Скругленный прямоугольник 3"/>
          <p:cNvSpPr/>
          <p:nvPr/>
        </p:nvSpPr>
        <p:spPr>
          <a:xfrm>
            <a:off x="142920" y="357120"/>
            <a:ext cx="4357800" cy="6286680"/>
          </a:xfrm>
          <a:custGeom>
            <a:avLst/>
            <a:gdLst>
              <a:gd name="textAreaLeft" fmla="*/ 212400 w 4357800"/>
              <a:gd name="textAreaRight" fmla="*/ 4145400 w 4357800"/>
              <a:gd name="textAreaTop" fmla="*/ 212400 h 6286680"/>
              <a:gd name="textAreaBottom" fmla="*/ 6074280 h 6286680"/>
            </a:gdLst>
            <a:ahLst/>
            <a:rect l="textAreaLeft" t="textAreaTop" r="textAreaRight" b="textAreaBottom"/>
            <a:pathLst>
              <a:path w="21600" h="31160">
                <a:moveTo>
                  <a:pt x="3600" y="0"/>
                </a:moveTo>
                <a:arcTo wR="3600" hR="3600" stAng="16200000" swAng="-5400000"/>
                <a:lnTo>
                  <a:pt x="0" y="27560"/>
                </a:lnTo>
                <a:arcTo wR="3600" hR="3600" stAng="10800000" swAng="-5400000"/>
                <a:lnTo>
                  <a:pt x="18000" y="3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Lucida Sans Unicode"/>
                <a:ea typeface="Lucida Sans Unicode"/>
              </a:rPr>
              <a:t>III.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Организационный разд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Скругленный прямоугольник 4"/>
          <p:cNvSpPr/>
          <p:nvPr/>
        </p:nvSpPr>
        <p:spPr>
          <a:xfrm>
            <a:off x="4668840" y="299880"/>
            <a:ext cx="4357800" cy="6286680"/>
          </a:xfrm>
          <a:custGeom>
            <a:avLst/>
            <a:gdLst>
              <a:gd name="textAreaLeft" fmla="*/ 212400 w 4357800"/>
              <a:gd name="textAreaRight" fmla="*/ 4145400 w 4357800"/>
              <a:gd name="textAreaTop" fmla="*/ 212400 h 6286680"/>
              <a:gd name="textAreaBottom" fmla="*/ 6074280 h 6286680"/>
            </a:gdLst>
            <a:ahLst/>
            <a:rect l="textAreaLeft" t="textAreaTop" r="textAreaRight" b="textAreaBottom"/>
            <a:pathLst>
              <a:path w="21600" h="31160">
                <a:moveTo>
                  <a:pt x="3600" y="0"/>
                </a:moveTo>
                <a:arcTo wR="3600" hR="3600" stAng="16200000" swAng="-5400000"/>
                <a:lnTo>
                  <a:pt x="0" y="27560"/>
                </a:lnTo>
                <a:arcTo wR="3600" hR="3600" stAng="10800000" swAng="-5400000"/>
                <a:lnTo>
                  <a:pt x="18000" y="3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984807"/>
            </a:solidFill>
            <a:miter/>
          </a:ln>
          <a:effectLst>
            <a:outerShdw dist="38160" dir="108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Материально-техническое обеспечение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Обеспеченность методическими материалами и средствами обучения и восп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Распорядок и /или режим д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Особенности традиционных событий, праздников, меропри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Особенности организации развивающей предметно-пространственной ср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Психолого-педагогические условия реализации О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Кадровые условия реализации О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Финансовые условия реализации О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Группа 12"/>
          <p:cNvGrpSpPr/>
          <p:nvPr/>
        </p:nvGrpSpPr>
        <p:grpSpPr>
          <a:xfrm>
            <a:off x="4164120" y="609480"/>
            <a:ext cx="838080" cy="598680"/>
            <a:chOff x="4164120" y="609480"/>
            <a:chExt cx="838080" cy="598680"/>
          </a:xfrm>
        </p:grpSpPr>
        <p:sp>
          <p:nvSpPr>
            <p:cNvPr id="305" name="Блок-схема: узел 10"/>
            <p:cNvSpPr/>
            <p:nvPr/>
          </p:nvSpPr>
          <p:spPr>
            <a:xfrm>
              <a:off x="4714560" y="800640"/>
              <a:ext cx="287640" cy="4075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Блок-схема: узел 11"/>
            <p:cNvSpPr/>
            <p:nvPr/>
          </p:nvSpPr>
          <p:spPr>
            <a:xfrm>
              <a:off x="4164120" y="783720"/>
              <a:ext cx="287640" cy="4075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Арка 9"/>
            <p:cNvGrpSpPr/>
            <p:nvPr/>
          </p:nvGrpSpPr>
          <p:grpSpPr>
            <a:xfrm>
              <a:off x="4182120" y="609480"/>
              <a:ext cx="803880" cy="577800"/>
              <a:chOff x="4182120" y="609480"/>
              <a:chExt cx="803880" cy="577800"/>
            </a:xfrm>
          </p:grpSpPr>
          <p:pic>
            <p:nvPicPr>
              <p:cNvPr id="308" name="Арка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182120" y="609480"/>
                <a:ext cx="803880" cy="57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4234320" y="651960"/>
                <a:ext cx="699480" cy="42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0" name="Группа 13"/>
          <p:cNvGrpSpPr/>
          <p:nvPr/>
        </p:nvGrpSpPr>
        <p:grpSpPr>
          <a:xfrm>
            <a:off x="4143240" y="5572080"/>
            <a:ext cx="839880" cy="598680"/>
            <a:chOff x="4143240" y="5572080"/>
            <a:chExt cx="839880" cy="598680"/>
          </a:xfrm>
        </p:grpSpPr>
        <p:sp>
          <p:nvSpPr>
            <p:cNvPr id="311" name="Блок-схема: узел 14"/>
            <p:cNvSpPr/>
            <p:nvPr/>
          </p:nvSpPr>
          <p:spPr>
            <a:xfrm>
              <a:off x="4695120" y="5763960"/>
              <a:ext cx="288000" cy="40680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Блок-схема: узел 15"/>
            <p:cNvSpPr/>
            <p:nvPr/>
          </p:nvSpPr>
          <p:spPr>
            <a:xfrm>
              <a:off x="4143240" y="5747040"/>
              <a:ext cx="288000" cy="40680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Арка 16"/>
            <p:cNvGrpSpPr/>
            <p:nvPr/>
          </p:nvGrpSpPr>
          <p:grpSpPr>
            <a:xfrm>
              <a:off x="4157280" y="5572080"/>
              <a:ext cx="811440" cy="577080"/>
              <a:chOff x="4157280" y="5572080"/>
              <a:chExt cx="811440" cy="577080"/>
            </a:xfrm>
          </p:grpSpPr>
          <p:pic>
            <p:nvPicPr>
              <p:cNvPr id="314" name="Арка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4157280" y="5572080"/>
                <a:ext cx="811440" cy="57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"/>
              <p:cNvSpPr/>
              <p:nvPr/>
            </p:nvSpPr>
            <p:spPr>
              <a:xfrm>
                <a:off x="4213440" y="5615640"/>
                <a:ext cx="7009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6" name="Группа 17"/>
          <p:cNvGrpSpPr/>
          <p:nvPr/>
        </p:nvGrpSpPr>
        <p:grpSpPr>
          <a:xfrm>
            <a:off x="4143240" y="3214800"/>
            <a:ext cx="839880" cy="598320"/>
            <a:chOff x="4143240" y="3214800"/>
            <a:chExt cx="839880" cy="598320"/>
          </a:xfrm>
        </p:grpSpPr>
        <p:sp>
          <p:nvSpPr>
            <p:cNvPr id="317" name="Блок-схема: узел 18"/>
            <p:cNvSpPr/>
            <p:nvPr/>
          </p:nvSpPr>
          <p:spPr>
            <a:xfrm>
              <a:off x="4695120" y="3408120"/>
              <a:ext cx="288000" cy="40500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Блок-схема: узел 19"/>
            <p:cNvSpPr/>
            <p:nvPr/>
          </p:nvSpPr>
          <p:spPr>
            <a:xfrm>
              <a:off x="4143240" y="3391560"/>
              <a:ext cx="288000" cy="40500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Арка 20"/>
            <p:cNvGrpSpPr/>
            <p:nvPr/>
          </p:nvGrpSpPr>
          <p:grpSpPr>
            <a:xfrm>
              <a:off x="4157280" y="3214800"/>
              <a:ext cx="811440" cy="574200"/>
              <a:chOff x="4157280" y="3214800"/>
              <a:chExt cx="811440" cy="574200"/>
            </a:xfrm>
          </p:grpSpPr>
          <p:pic>
            <p:nvPicPr>
              <p:cNvPr id="320" name="Арка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4157280" y="3214800"/>
                <a:ext cx="811440" cy="57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1" name=""/>
              <p:cNvSpPr/>
              <p:nvPr/>
            </p:nvSpPr>
            <p:spPr>
              <a:xfrm>
                <a:off x="4213440" y="3260520"/>
                <a:ext cx="700920" cy="4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2" name="Группа 21"/>
          <p:cNvGrpSpPr/>
          <p:nvPr/>
        </p:nvGrpSpPr>
        <p:grpSpPr>
          <a:xfrm>
            <a:off x="4143240" y="2000160"/>
            <a:ext cx="839880" cy="598680"/>
            <a:chOff x="4143240" y="2000160"/>
            <a:chExt cx="839880" cy="598680"/>
          </a:xfrm>
        </p:grpSpPr>
        <p:sp>
          <p:nvSpPr>
            <p:cNvPr id="323" name="Блок-схема: узел 22"/>
            <p:cNvSpPr/>
            <p:nvPr/>
          </p:nvSpPr>
          <p:spPr>
            <a:xfrm>
              <a:off x="4695120" y="2192400"/>
              <a:ext cx="288000" cy="40644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Блок-схема: узел 23"/>
            <p:cNvSpPr/>
            <p:nvPr/>
          </p:nvSpPr>
          <p:spPr>
            <a:xfrm>
              <a:off x="4143240" y="2175480"/>
              <a:ext cx="288000" cy="40644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Арка 24"/>
            <p:cNvGrpSpPr/>
            <p:nvPr/>
          </p:nvGrpSpPr>
          <p:grpSpPr>
            <a:xfrm>
              <a:off x="4157280" y="2000160"/>
              <a:ext cx="811440" cy="576360"/>
              <a:chOff x="4157280" y="2000160"/>
              <a:chExt cx="811440" cy="576360"/>
            </a:xfrm>
          </p:grpSpPr>
          <p:pic>
            <p:nvPicPr>
              <p:cNvPr id="326" name="Арка 24" descr=""/>
              <p:cNvPicPr/>
              <p:nvPr/>
            </p:nvPicPr>
            <p:blipFill>
              <a:blip r:embed="rId4"/>
              <a:stretch/>
            </p:blipFill>
            <p:spPr>
              <a:xfrm>
                <a:off x="4157280" y="2000160"/>
                <a:ext cx="8114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7" name=""/>
              <p:cNvSpPr/>
              <p:nvPr/>
            </p:nvSpPr>
            <p:spPr>
              <a:xfrm>
                <a:off x="4213440" y="2044080"/>
                <a:ext cx="700920" cy="42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8" name="Группа 25"/>
          <p:cNvGrpSpPr/>
          <p:nvPr/>
        </p:nvGrpSpPr>
        <p:grpSpPr>
          <a:xfrm>
            <a:off x="4143240" y="4429080"/>
            <a:ext cx="839880" cy="598680"/>
            <a:chOff x="4143240" y="4429080"/>
            <a:chExt cx="839880" cy="598680"/>
          </a:xfrm>
        </p:grpSpPr>
        <p:sp>
          <p:nvSpPr>
            <p:cNvPr id="329" name="Блок-схема: узел 26"/>
            <p:cNvSpPr/>
            <p:nvPr/>
          </p:nvSpPr>
          <p:spPr>
            <a:xfrm>
              <a:off x="4695120" y="4623840"/>
              <a:ext cx="288000" cy="4039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Блок-схема: узел 27"/>
            <p:cNvSpPr/>
            <p:nvPr/>
          </p:nvSpPr>
          <p:spPr>
            <a:xfrm>
              <a:off x="4143240" y="4606920"/>
              <a:ext cx="288000" cy="4039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" name="Арка 28"/>
            <p:cNvGrpSpPr/>
            <p:nvPr/>
          </p:nvGrpSpPr>
          <p:grpSpPr>
            <a:xfrm>
              <a:off x="4157280" y="4429080"/>
              <a:ext cx="811440" cy="581400"/>
              <a:chOff x="4157280" y="4429080"/>
              <a:chExt cx="811440" cy="581400"/>
            </a:xfrm>
          </p:grpSpPr>
          <p:pic>
            <p:nvPicPr>
              <p:cNvPr id="332" name="Арка 28" descr=""/>
              <p:cNvPicPr/>
              <p:nvPr/>
            </p:nvPicPr>
            <p:blipFill>
              <a:blip r:embed="rId5"/>
              <a:stretch/>
            </p:blipFill>
            <p:spPr>
              <a:xfrm>
                <a:off x="4157280" y="4429080"/>
                <a:ext cx="811440" cy="58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3" name=""/>
              <p:cNvSpPr/>
              <p:nvPr/>
            </p:nvSpPr>
            <p:spPr>
              <a:xfrm>
                <a:off x="4213440" y="4476600"/>
                <a:ext cx="70092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D:\Globex\Шаблоны для PowerPoint\#0040\Components\SC_02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TextBox 4"/>
          <p:cNvSpPr/>
          <p:nvPr/>
        </p:nvSpPr>
        <p:spPr>
          <a:xfrm>
            <a:off x="1066680" y="1701720"/>
            <a:ext cx="7000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лноценное прожив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бёнком всех этапов детства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богащение  (амплификация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детского разви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построение образовательной деятельности на основе индивидуальных особенностей каждого ребенка, при котором сам ребенок становится активным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выборе содержания своего образования, становится субъектом образования (далее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ндивиду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дошкольного образования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5"/>
          <p:cNvSpPr/>
          <p:nvPr/>
        </p:nvSpPr>
        <p:spPr>
          <a:xfrm>
            <a:off x="179280" y="6480"/>
            <a:ext cx="843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ОСНОВНЫЕ ПРИНЦИ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ДОШКО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D:\Globex\Шаблоны для PowerPoint\#0040\Components\SC_02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TextBox 4"/>
          <p:cNvSpPr/>
          <p:nvPr/>
        </p:nvSpPr>
        <p:spPr>
          <a:xfrm>
            <a:off x="1071720" y="1268280"/>
            <a:ext cx="7000560" cy="51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должение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содействие и сотрудничество детей и взрослых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, признание ребенка полноценным участником (субъектом) образовательных отношен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поддержка инициативы детей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 различных видах деятельност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5) сотрудничество Организации 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с семьё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6) приобщение детей к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социокультурным нормам, традициям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семьи, общества и государств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5"/>
          <p:cNvSpPr/>
          <p:nvPr/>
        </p:nvSpPr>
        <p:spPr>
          <a:xfrm>
            <a:off x="179280" y="6480"/>
            <a:ext cx="843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ОСНОВНЫЕ ПРИНЦИ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ДОШКО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D:\Globex\Шаблоны для PowerPoint\#0040\Components\SC_02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341" name="TextBox 4"/>
          <p:cNvSpPr/>
          <p:nvPr/>
        </p:nvSpPr>
        <p:spPr>
          <a:xfrm>
            <a:off x="1071720" y="1484280"/>
            <a:ext cx="70005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оконча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) формировани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х интересов и познавательных действи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бенка в различных видах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)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озрастная адекватнос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школьного образования (соответствия условий, требований, методов возрасту  и особенностям развит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)учё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этнокультурной ситуац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я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5"/>
          <p:cNvSpPr/>
          <p:nvPr/>
        </p:nvSpPr>
        <p:spPr>
          <a:xfrm>
            <a:off x="250920" y="0"/>
            <a:ext cx="843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ОСНОВНЫЕ ПРИНЦИ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ДОШКО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D:\Globex\Шаблоны для PowerPoint\#0040\Components\SC_02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344" name="TextBox 4"/>
          <p:cNvSpPr/>
          <p:nvPr/>
        </p:nvSpPr>
        <p:spPr>
          <a:xfrm>
            <a:off x="1071720" y="1484280"/>
            <a:ext cx="70005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 уважение взрослых к человеческому достоинству детей, формирование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поддержка их положительной самооценки, уверенности в собственных возможностях и способност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 использование в образовательной деятельности форм и методов работы с детьми, соответствующих их возрастным и индивидуальным особенностям (недопустимость как искусственного ускорения, так и искусственного замедления развития дете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 построение образовательной деятельности на основе взаимодействия взрослых с детьми, ориентированного на интересы и возможности каждого ребёнка и учитывающего социальную ситуацию его разви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5"/>
          <p:cNvSpPr/>
          <p:nvPr/>
        </p:nvSpPr>
        <p:spPr>
          <a:xfrm>
            <a:off x="250920" y="0"/>
            <a:ext cx="843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 Black"/>
              </a:rPr>
              <a:t>ПСИХОЛОГО-ПЕДАГОГИЧЕСКИЕ УСЛО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D:\Globex\Шаблоны для PowerPoint\#0040\Components\SC_02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347" name="TextBox 4"/>
          <p:cNvSpPr/>
          <p:nvPr/>
        </p:nvSpPr>
        <p:spPr>
          <a:xfrm>
            <a:off x="1071720" y="1268280"/>
            <a:ext cx="700056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должение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 поддержка взрослыми положительного, доброжелательного отношения детей друг к другу и взаимодействия детей друг с другом в разных видах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 поддержка инициативы и самостоятельности детей в специфических для них видах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) возможность выбора детьми материалов,  видов активности, участников совместной деятельности и общ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5"/>
          <p:cNvSpPr/>
          <p:nvPr/>
        </p:nvSpPr>
        <p:spPr>
          <a:xfrm>
            <a:off x="250920" y="0"/>
            <a:ext cx="843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 Black"/>
              </a:rPr>
              <a:t>ПСИХОЛОГО-ПЕДАГОГИЧЕСКИЕ УСЛО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D:\Globex\Шаблоны для PowerPoint\#0040\Components\SC_02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TextBox 4"/>
          <p:cNvSpPr/>
          <p:nvPr/>
        </p:nvSpPr>
        <p:spPr>
          <a:xfrm>
            <a:off x="1071720" y="1484280"/>
            <a:ext cx="700056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оконча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) защита детей от всех форм физического и психического насил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) поддержка родителей (законных представителей) в воспитании детей, охране и укреплении их здоровья, вовлечение семей непосредственно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бразовательную деятель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5"/>
          <p:cNvSpPr/>
          <p:nvPr/>
        </p:nvSpPr>
        <p:spPr>
          <a:xfrm>
            <a:off x="250920" y="0"/>
            <a:ext cx="843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 Black"/>
              </a:rPr>
              <a:t>ПСИХОЛОГО-ПЕДАГОГИЧЕСКИЕ УСЛО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D:\Globex\Шаблоны для PowerPoint\#0040\Components\SC_02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TextBox 4"/>
          <p:cNvSpPr/>
          <p:nvPr/>
        </p:nvSpPr>
        <p:spPr>
          <a:xfrm>
            <a:off x="1071720" y="1484280"/>
            <a:ext cx="70005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ДДЕРЖКА ИНИЦИАТИВЫ И САМОСТОЯТЕЛЬНОСТИ ДЕТЕЙ ПУТЕМ СОДЕЙСТВИЯ И СОТРУДНИЧЕСТВА СО ВЗРОСЛЫМИ И ДЕТЬМИ (С УЧАСТИЕМ РОДИТЕЛЕЙ), ПОСТРОЕННОГО НА ОСНОВЕ ИНДИВИДУАЛИЗАЦИИ И НАПРАВЛЕННОГО НА ОСВОЕНИЕ СОЦИОКУЛЬТУРНОГО ОПЫТА, ФОРМИРОВАНИЕ ПОЗНАВАТЕЛЬНЫХ ИНТЕРЕСОВ И ПОЗНАВАТЕЛЬНЫХ ДЕЙСТВ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5"/>
          <p:cNvSpPr/>
          <p:nvPr/>
        </p:nvSpPr>
        <p:spPr>
          <a:xfrm>
            <a:off x="250920" y="0"/>
            <a:ext cx="843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 Black"/>
              </a:rPr>
              <a:t>ЯДРО ОБРАЗОВАТЕЛЬ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D:\Globex\Шаблоны для PowerPoint\#0040\Components\SC_02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TextBox 4"/>
          <p:cNvSpPr/>
          <p:nvPr/>
        </p:nvSpPr>
        <p:spPr>
          <a:xfrm>
            <a:off x="1071720" y="1484280"/>
            <a:ext cx="70005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ЛНОЦЕННОЕ ПРОЖИВАНИЕ ДЕТСТВА, ОБОГАЩЕНИЕ РАЗВИТИЯ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ВОЗРАСТНОЙ ПОДХО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ЭТНОКУЛЬТУРНЫЕ ОСОБ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237960" y="274680"/>
            <a:ext cx="843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 Black"/>
              </a:rPr>
              <a:t>ЧТО НЕ ДОЛЖНО БЫТЬ УТЕРЯ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496000" cy="31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ПРОЕКТИРОВАНИЕ ОСНОВНОЙ ОБРАЗОВАТЕЛЬНОЙ ПРОГРАММЫ ДОШКОЛЬНОГО ОБРАЗОВАНИЯ В РАМКАХ ФГОС Д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95280" y="3886200"/>
            <a:ext cx="813744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Кириллов Иван Львович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зам. директора по научной рабо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ФГНУ «Институт психолого-педагогических проблем детства» РА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D:\Globex\Шаблоны для PowerPoint\#0040\Components\SC_02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1071720" y="1484280"/>
            <a:ext cx="70005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СОЗДАНИЕ ПРЕДМЕТНО-ПРОСТРАНСТВЕННОЙ РАЗВИВАЮЩЕЙ ОБРАЗОВАТЕЛЬНО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ОПОРА НА ВИДЫ ДЕЯТЕЛЬНОСТИ, В КОТОРЫХ РЕБЕНОК МОЖЕТ БЫТЬ МАКСИМАЛЬНО САМОСТОЯТЕЛЬНЫ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ЭТНОКУЛЬТУРНЫЕ ОСОБ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5"/>
          <p:cNvSpPr/>
          <p:nvPr/>
        </p:nvSpPr>
        <p:spPr>
          <a:xfrm>
            <a:off x="395280" y="11592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 Black"/>
              </a:rPr>
              <a:t>ОСНОВНЫЕ СРЕДСТВА ПОДДЕРЖКИ ИНИЦИАТИВЫ И РАЗВИТИЯ САМОСТО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D:\Globex\Шаблоны для PowerPoint\#0040\Components\SC_02.jpg"/>
          <p:cNvPicPr/>
          <p:nvPr/>
        </p:nvPicPr>
        <p:blipFill>
          <a:blip r:embed="rId1"/>
          <a:stretch/>
        </p:blipFill>
        <p:spPr>
          <a:xfrm>
            <a:off x="0" y="-4752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362" name="TextBox 4" descr=""/>
          <p:cNvPicPr/>
          <p:nvPr/>
        </p:nvPicPr>
        <p:blipFill>
          <a:blip r:embed="rId2"/>
          <a:stretch/>
        </p:blipFill>
        <p:spPr>
          <a:xfrm>
            <a:off x="1066680" y="2419200"/>
            <a:ext cx="7004160" cy="2324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Скругленный прямоугольник 3"/>
          <p:cNvSpPr/>
          <p:nvPr/>
        </p:nvSpPr>
        <p:spPr>
          <a:xfrm>
            <a:off x="142920" y="357120"/>
            <a:ext cx="4357800" cy="6286680"/>
          </a:xfrm>
          <a:custGeom>
            <a:avLst/>
            <a:gdLst>
              <a:gd name="textAreaLeft" fmla="*/ 212400 w 4357800"/>
              <a:gd name="textAreaRight" fmla="*/ 4145400 w 4357800"/>
              <a:gd name="textAreaTop" fmla="*/ 212400 h 6286680"/>
              <a:gd name="textAreaBottom" fmla="*/ 6074280 h 6286680"/>
            </a:gdLst>
            <a:ahLst/>
            <a:rect l="textAreaLeft" t="textAreaTop" r="textAreaRight" b="textAreaBottom"/>
            <a:pathLst>
              <a:path w="21600" h="31160">
                <a:moveTo>
                  <a:pt x="3600" y="0"/>
                </a:moveTo>
                <a:arcTo wR="3600" hR="3600" stAng="16200000" swAng="-5400000"/>
                <a:lnTo>
                  <a:pt x="0" y="27560"/>
                </a:lnTo>
                <a:arcTo wR="3600" hR="3600" stAng="10800000" swAng="-5400000"/>
                <a:lnTo>
                  <a:pt x="18000" y="3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  <a:ea typeface="Lucida Sans Unicode"/>
              </a:rPr>
              <a:t>Основная образовательная программа дошко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4"/>
          <p:cNvSpPr/>
          <p:nvPr/>
        </p:nvSpPr>
        <p:spPr>
          <a:xfrm>
            <a:off x="4668840" y="299880"/>
            <a:ext cx="4357800" cy="6286680"/>
          </a:xfrm>
          <a:custGeom>
            <a:avLst/>
            <a:gdLst>
              <a:gd name="textAreaLeft" fmla="*/ 212400 w 4357800"/>
              <a:gd name="textAreaRight" fmla="*/ 4145400 w 4357800"/>
              <a:gd name="textAreaTop" fmla="*/ 212400 h 6286680"/>
              <a:gd name="textAreaBottom" fmla="*/ 6074280 h 6286680"/>
            </a:gdLst>
            <a:ahLst/>
            <a:rect l="textAreaLeft" t="textAreaTop" r="textAreaRight" b="textAreaBottom"/>
            <a:pathLst>
              <a:path w="21600" h="31160">
                <a:moveTo>
                  <a:pt x="3600" y="0"/>
                </a:moveTo>
                <a:arcTo wR="3600" hR="3600" stAng="16200000" swAng="-5400000"/>
                <a:lnTo>
                  <a:pt x="0" y="27560"/>
                </a:lnTo>
                <a:arcTo wR="3600" hR="3600" stAng="10800000" swAng="-5400000"/>
                <a:lnTo>
                  <a:pt x="18000" y="3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984807"/>
            </a:solidFill>
            <a:miter/>
          </a:ln>
          <a:effectLst>
            <a:outerShdw dist="38160" dir="108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Lucida Sans Unicode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Целевой разд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Lucida Sans Unicode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Содержательный разд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Lucida Sans Unicode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Организационный разд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2"/>
          <p:cNvGrpSpPr/>
          <p:nvPr/>
        </p:nvGrpSpPr>
        <p:grpSpPr>
          <a:xfrm>
            <a:off x="4164120" y="609480"/>
            <a:ext cx="838080" cy="598680"/>
            <a:chOff x="4164120" y="609480"/>
            <a:chExt cx="838080" cy="598680"/>
          </a:xfrm>
        </p:grpSpPr>
        <p:sp>
          <p:nvSpPr>
            <p:cNvPr id="49" name="Блок-схема: узел 10"/>
            <p:cNvSpPr/>
            <p:nvPr/>
          </p:nvSpPr>
          <p:spPr>
            <a:xfrm>
              <a:off x="4714560" y="800640"/>
              <a:ext cx="287640" cy="4075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Блок-схема: узел 11"/>
            <p:cNvSpPr/>
            <p:nvPr/>
          </p:nvSpPr>
          <p:spPr>
            <a:xfrm>
              <a:off x="4164120" y="783720"/>
              <a:ext cx="287640" cy="4075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Арка 9"/>
            <p:cNvGrpSpPr/>
            <p:nvPr/>
          </p:nvGrpSpPr>
          <p:grpSpPr>
            <a:xfrm>
              <a:off x="4182120" y="609480"/>
              <a:ext cx="803880" cy="577800"/>
              <a:chOff x="4182120" y="609480"/>
              <a:chExt cx="803880" cy="577800"/>
            </a:xfrm>
          </p:grpSpPr>
          <p:pic>
            <p:nvPicPr>
              <p:cNvPr id="52" name="Арка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182120" y="609480"/>
                <a:ext cx="803880" cy="57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4234320" y="651960"/>
                <a:ext cx="699480" cy="42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" name="Группа 13"/>
          <p:cNvGrpSpPr/>
          <p:nvPr/>
        </p:nvGrpSpPr>
        <p:grpSpPr>
          <a:xfrm>
            <a:off x="4143240" y="5572080"/>
            <a:ext cx="839880" cy="598680"/>
            <a:chOff x="4143240" y="5572080"/>
            <a:chExt cx="839880" cy="598680"/>
          </a:xfrm>
        </p:grpSpPr>
        <p:sp>
          <p:nvSpPr>
            <p:cNvPr id="55" name="Блок-схема: узел 14"/>
            <p:cNvSpPr/>
            <p:nvPr/>
          </p:nvSpPr>
          <p:spPr>
            <a:xfrm>
              <a:off x="4695120" y="5763960"/>
              <a:ext cx="288000" cy="40680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Блок-схема: узел 15"/>
            <p:cNvSpPr/>
            <p:nvPr/>
          </p:nvSpPr>
          <p:spPr>
            <a:xfrm>
              <a:off x="4143240" y="5747040"/>
              <a:ext cx="288000" cy="40680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Арка 16"/>
            <p:cNvGrpSpPr/>
            <p:nvPr/>
          </p:nvGrpSpPr>
          <p:grpSpPr>
            <a:xfrm>
              <a:off x="4157280" y="5572080"/>
              <a:ext cx="811440" cy="577080"/>
              <a:chOff x="4157280" y="5572080"/>
              <a:chExt cx="811440" cy="577080"/>
            </a:xfrm>
          </p:grpSpPr>
          <p:pic>
            <p:nvPicPr>
              <p:cNvPr id="58" name="Арка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4157280" y="5572080"/>
                <a:ext cx="811440" cy="57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4213440" y="5615640"/>
                <a:ext cx="7009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" name="Группа 17"/>
          <p:cNvGrpSpPr/>
          <p:nvPr/>
        </p:nvGrpSpPr>
        <p:grpSpPr>
          <a:xfrm>
            <a:off x="4143240" y="3214800"/>
            <a:ext cx="839880" cy="598320"/>
            <a:chOff x="4143240" y="3214800"/>
            <a:chExt cx="839880" cy="598320"/>
          </a:xfrm>
        </p:grpSpPr>
        <p:sp>
          <p:nvSpPr>
            <p:cNvPr id="61" name="Блок-схема: узел 18"/>
            <p:cNvSpPr/>
            <p:nvPr/>
          </p:nvSpPr>
          <p:spPr>
            <a:xfrm>
              <a:off x="4695120" y="3408120"/>
              <a:ext cx="288000" cy="40500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Блок-схема: узел 19"/>
            <p:cNvSpPr/>
            <p:nvPr/>
          </p:nvSpPr>
          <p:spPr>
            <a:xfrm>
              <a:off x="4143240" y="3391560"/>
              <a:ext cx="288000" cy="40500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Арка 20"/>
            <p:cNvGrpSpPr/>
            <p:nvPr/>
          </p:nvGrpSpPr>
          <p:grpSpPr>
            <a:xfrm>
              <a:off x="4157280" y="3214800"/>
              <a:ext cx="811440" cy="574200"/>
              <a:chOff x="4157280" y="3214800"/>
              <a:chExt cx="811440" cy="574200"/>
            </a:xfrm>
          </p:grpSpPr>
          <p:pic>
            <p:nvPicPr>
              <p:cNvPr id="64" name="Арка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4157280" y="3214800"/>
                <a:ext cx="811440" cy="57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"/>
              <p:cNvSpPr/>
              <p:nvPr/>
            </p:nvSpPr>
            <p:spPr>
              <a:xfrm>
                <a:off x="4213440" y="3260520"/>
                <a:ext cx="700920" cy="4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Группа 21"/>
          <p:cNvGrpSpPr/>
          <p:nvPr/>
        </p:nvGrpSpPr>
        <p:grpSpPr>
          <a:xfrm>
            <a:off x="4143240" y="2000160"/>
            <a:ext cx="839880" cy="598680"/>
            <a:chOff x="4143240" y="2000160"/>
            <a:chExt cx="839880" cy="598680"/>
          </a:xfrm>
        </p:grpSpPr>
        <p:sp>
          <p:nvSpPr>
            <p:cNvPr id="67" name="Блок-схема: узел 22"/>
            <p:cNvSpPr/>
            <p:nvPr/>
          </p:nvSpPr>
          <p:spPr>
            <a:xfrm>
              <a:off x="4695120" y="2192400"/>
              <a:ext cx="288000" cy="40644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Блок-схема: узел 23"/>
            <p:cNvSpPr/>
            <p:nvPr/>
          </p:nvSpPr>
          <p:spPr>
            <a:xfrm>
              <a:off x="4143240" y="2175480"/>
              <a:ext cx="288000" cy="40644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Арка 24"/>
            <p:cNvGrpSpPr/>
            <p:nvPr/>
          </p:nvGrpSpPr>
          <p:grpSpPr>
            <a:xfrm>
              <a:off x="4157280" y="2000160"/>
              <a:ext cx="811440" cy="576360"/>
              <a:chOff x="4157280" y="2000160"/>
              <a:chExt cx="811440" cy="576360"/>
            </a:xfrm>
          </p:grpSpPr>
          <p:pic>
            <p:nvPicPr>
              <p:cNvPr id="70" name="Арка 24" descr=""/>
              <p:cNvPicPr/>
              <p:nvPr/>
            </p:nvPicPr>
            <p:blipFill>
              <a:blip r:embed="rId4"/>
              <a:stretch/>
            </p:blipFill>
            <p:spPr>
              <a:xfrm>
                <a:off x="4157280" y="2000160"/>
                <a:ext cx="8114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"/>
              <p:cNvSpPr/>
              <p:nvPr/>
            </p:nvSpPr>
            <p:spPr>
              <a:xfrm>
                <a:off x="4213440" y="2044080"/>
                <a:ext cx="700920" cy="42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Группа 25"/>
          <p:cNvGrpSpPr/>
          <p:nvPr/>
        </p:nvGrpSpPr>
        <p:grpSpPr>
          <a:xfrm>
            <a:off x="4143240" y="4429080"/>
            <a:ext cx="839880" cy="598680"/>
            <a:chOff x="4143240" y="4429080"/>
            <a:chExt cx="839880" cy="598680"/>
          </a:xfrm>
        </p:grpSpPr>
        <p:sp>
          <p:nvSpPr>
            <p:cNvPr id="73" name="Блок-схема: узел 26"/>
            <p:cNvSpPr/>
            <p:nvPr/>
          </p:nvSpPr>
          <p:spPr>
            <a:xfrm>
              <a:off x="4695120" y="4623840"/>
              <a:ext cx="288000" cy="4039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Блок-схема: узел 27"/>
            <p:cNvSpPr/>
            <p:nvPr/>
          </p:nvSpPr>
          <p:spPr>
            <a:xfrm>
              <a:off x="4143240" y="4606920"/>
              <a:ext cx="288000" cy="4039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Арка 28"/>
            <p:cNvGrpSpPr/>
            <p:nvPr/>
          </p:nvGrpSpPr>
          <p:grpSpPr>
            <a:xfrm>
              <a:off x="4157280" y="4429080"/>
              <a:ext cx="811440" cy="581400"/>
              <a:chOff x="4157280" y="4429080"/>
              <a:chExt cx="811440" cy="581400"/>
            </a:xfrm>
          </p:grpSpPr>
          <p:pic>
            <p:nvPicPr>
              <p:cNvPr id="76" name="Арка 28" descr=""/>
              <p:cNvPicPr/>
              <p:nvPr/>
            </p:nvPicPr>
            <p:blipFill>
              <a:blip r:embed="rId5"/>
              <a:stretch/>
            </p:blipFill>
            <p:spPr>
              <a:xfrm>
                <a:off x="4157280" y="4429080"/>
                <a:ext cx="811440" cy="58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4213440" y="4476600"/>
                <a:ext cx="70092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Скругленный прямоугольник 3"/>
          <p:cNvSpPr/>
          <p:nvPr/>
        </p:nvSpPr>
        <p:spPr>
          <a:xfrm>
            <a:off x="142920" y="357120"/>
            <a:ext cx="4357800" cy="6286680"/>
          </a:xfrm>
          <a:custGeom>
            <a:avLst/>
            <a:gdLst>
              <a:gd name="textAreaLeft" fmla="*/ 212400 w 4357800"/>
              <a:gd name="textAreaRight" fmla="*/ 4145400 w 4357800"/>
              <a:gd name="textAreaTop" fmla="*/ 212400 h 6286680"/>
              <a:gd name="textAreaBottom" fmla="*/ 6074280 h 6286680"/>
            </a:gdLst>
            <a:ahLst/>
            <a:rect l="textAreaLeft" t="textAreaTop" r="textAreaRight" b="textAreaBottom"/>
            <a:pathLst>
              <a:path w="21600" h="31160">
                <a:moveTo>
                  <a:pt x="3600" y="0"/>
                </a:moveTo>
                <a:arcTo wR="3600" hR="3600" stAng="16200000" swAng="-5400000"/>
                <a:lnTo>
                  <a:pt x="0" y="27560"/>
                </a:lnTo>
                <a:arcTo wR="3600" hR="3600" stAng="10800000" swAng="-5400000"/>
                <a:lnTo>
                  <a:pt x="18000" y="3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  <a:ea typeface="Lucida Sans Unicode"/>
              </a:rPr>
              <a:t>I. </a:t>
            </a:r>
            <a:r>
              <a:rPr b="0" lang="ru-RU" sz="3200" spc="-1" strike="noStrike">
                <a:solidFill>
                  <a:srgbClr val="002060"/>
                </a:solidFill>
                <a:latin typeface="Lucida Sans Unicode"/>
                <a:ea typeface="Lucida Sans Unicode"/>
              </a:rPr>
              <a:t>Целевой разд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4"/>
          <p:cNvSpPr/>
          <p:nvPr/>
        </p:nvSpPr>
        <p:spPr>
          <a:xfrm>
            <a:off x="4668840" y="299880"/>
            <a:ext cx="4357800" cy="6286680"/>
          </a:xfrm>
          <a:custGeom>
            <a:avLst/>
            <a:gdLst>
              <a:gd name="textAreaLeft" fmla="*/ 212400 w 4357800"/>
              <a:gd name="textAreaRight" fmla="*/ 4145400 w 4357800"/>
              <a:gd name="textAreaTop" fmla="*/ 212400 h 6286680"/>
              <a:gd name="textAreaBottom" fmla="*/ 6074280 h 6286680"/>
            </a:gdLst>
            <a:ahLst/>
            <a:rect l="textAreaLeft" t="textAreaTop" r="textAreaRight" b="textAreaBottom"/>
            <a:pathLst>
              <a:path w="21600" h="31160">
                <a:moveTo>
                  <a:pt x="3600" y="0"/>
                </a:moveTo>
                <a:arcTo wR="3600" hR="3600" stAng="16200000" swAng="-5400000"/>
                <a:lnTo>
                  <a:pt x="0" y="27560"/>
                </a:lnTo>
                <a:arcTo wR="3600" hR="3600" stAng="10800000" swAng="-5400000"/>
                <a:lnTo>
                  <a:pt x="18000" y="3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984807"/>
            </a:solidFill>
            <a:miter/>
          </a:ln>
          <a:effectLst>
            <a:outerShdw dist="38160" dir="108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Пояснительная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зап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2. Планируемые  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результ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Группа 12"/>
          <p:cNvGrpSpPr/>
          <p:nvPr/>
        </p:nvGrpSpPr>
        <p:grpSpPr>
          <a:xfrm>
            <a:off x="4164120" y="609480"/>
            <a:ext cx="838080" cy="598680"/>
            <a:chOff x="4164120" y="609480"/>
            <a:chExt cx="838080" cy="598680"/>
          </a:xfrm>
        </p:grpSpPr>
        <p:sp>
          <p:nvSpPr>
            <p:cNvPr id="81" name="Блок-схема: узел 10"/>
            <p:cNvSpPr/>
            <p:nvPr/>
          </p:nvSpPr>
          <p:spPr>
            <a:xfrm>
              <a:off x="4714560" y="800640"/>
              <a:ext cx="287640" cy="4075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Блок-схема: узел 11"/>
            <p:cNvSpPr/>
            <p:nvPr/>
          </p:nvSpPr>
          <p:spPr>
            <a:xfrm>
              <a:off x="4164120" y="783720"/>
              <a:ext cx="287640" cy="4075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Арка 9"/>
            <p:cNvGrpSpPr/>
            <p:nvPr/>
          </p:nvGrpSpPr>
          <p:grpSpPr>
            <a:xfrm>
              <a:off x="4182120" y="609480"/>
              <a:ext cx="803880" cy="577800"/>
              <a:chOff x="4182120" y="609480"/>
              <a:chExt cx="803880" cy="577800"/>
            </a:xfrm>
          </p:grpSpPr>
          <p:pic>
            <p:nvPicPr>
              <p:cNvPr id="84" name="Арка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182120" y="609480"/>
                <a:ext cx="803880" cy="57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4234320" y="651960"/>
                <a:ext cx="699480" cy="42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" name="Группа 13"/>
          <p:cNvGrpSpPr/>
          <p:nvPr/>
        </p:nvGrpSpPr>
        <p:grpSpPr>
          <a:xfrm>
            <a:off x="4143240" y="5572080"/>
            <a:ext cx="839880" cy="598680"/>
            <a:chOff x="4143240" y="5572080"/>
            <a:chExt cx="839880" cy="598680"/>
          </a:xfrm>
        </p:grpSpPr>
        <p:sp>
          <p:nvSpPr>
            <p:cNvPr id="87" name="Блок-схема: узел 14"/>
            <p:cNvSpPr/>
            <p:nvPr/>
          </p:nvSpPr>
          <p:spPr>
            <a:xfrm>
              <a:off x="4695120" y="5763960"/>
              <a:ext cx="288000" cy="40680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Блок-схема: узел 15"/>
            <p:cNvSpPr/>
            <p:nvPr/>
          </p:nvSpPr>
          <p:spPr>
            <a:xfrm>
              <a:off x="4143240" y="5747040"/>
              <a:ext cx="288000" cy="40680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Арка 16"/>
            <p:cNvGrpSpPr/>
            <p:nvPr/>
          </p:nvGrpSpPr>
          <p:grpSpPr>
            <a:xfrm>
              <a:off x="4157280" y="5572080"/>
              <a:ext cx="811440" cy="577080"/>
              <a:chOff x="4157280" y="5572080"/>
              <a:chExt cx="811440" cy="577080"/>
            </a:xfrm>
          </p:grpSpPr>
          <p:pic>
            <p:nvPicPr>
              <p:cNvPr id="90" name="Арка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4157280" y="5572080"/>
                <a:ext cx="811440" cy="57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"/>
              <p:cNvSpPr/>
              <p:nvPr/>
            </p:nvSpPr>
            <p:spPr>
              <a:xfrm>
                <a:off x="4213440" y="5615640"/>
                <a:ext cx="7009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" name="Группа 17"/>
          <p:cNvGrpSpPr/>
          <p:nvPr/>
        </p:nvGrpSpPr>
        <p:grpSpPr>
          <a:xfrm>
            <a:off x="4143240" y="3214800"/>
            <a:ext cx="839880" cy="598320"/>
            <a:chOff x="4143240" y="3214800"/>
            <a:chExt cx="839880" cy="598320"/>
          </a:xfrm>
        </p:grpSpPr>
        <p:sp>
          <p:nvSpPr>
            <p:cNvPr id="93" name="Блок-схема: узел 18"/>
            <p:cNvSpPr/>
            <p:nvPr/>
          </p:nvSpPr>
          <p:spPr>
            <a:xfrm>
              <a:off x="4695120" y="3408120"/>
              <a:ext cx="288000" cy="40500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Блок-схема: узел 19"/>
            <p:cNvSpPr/>
            <p:nvPr/>
          </p:nvSpPr>
          <p:spPr>
            <a:xfrm>
              <a:off x="4143240" y="3391560"/>
              <a:ext cx="288000" cy="40500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Арка 20"/>
            <p:cNvGrpSpPr/>
            <p:nvPr/>
          </p:nvGrpSpPr>
          <p:grpSpPr>
            <a:xfrm>
              <a:off x="4157280" y="3214800"/>
              <a:ext cx="811440" cy="574200"/>
              <a:chOff x="4157280" y="3214800"/>
              <a:chExt cx="811440" cy="574200"/>
            </a:xfrm>
          </p:grpSpPr>
          <p:pic>
            <p:nvPicPr>
              <p:cNvPr id="96" name="Арка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4157280" y="3214800"/>
                <a:ext cx="811440" cy="57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>
                <a:off x="4213440" y="3260520"/>
                <a:ext cx="700920" cy="4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Группа 21"/>
          <p:cNvGrpSpPr/>
          <p:nvPr/>
        </p:nvGrpSpPr>
        <p:grpSpPr>
          <a:xfrm>
            <a:off x="4143240" y="2000160"/>
            <a:ext cx="839880" cy="598680"/>
            <a:chOff x="4143240" y="2000160"/>
            <a:chExt cx="839880" cy="598680"/>
          </a:xfrm>
        </p:grpSpPr>
        <p:sp>
          <p:nvSpPr>
            <p:cNvPr id="99" name="Блок-схема: узел 22"/>
            <p:cNvSpPr/>
            <p:nvPr/>
          </p:nvSpPr>
          <p:spPr>
            <a:xfrm>
              <a:off x="4695120" y="2192400"/>
              <a:ext cx="288000" cy="40644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Блок-схема: узел 23"/>
            <p:cNvSpPr/>
            <p:nvPr/>
          </p:nvSpPr>
          <p:spPr>
            <a:xfrm>
              <a:off x="4143240" y="2175480"/>
              <a:ext cx="288000" cy="40644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Арка 24"/>
            <p:cNvGrpSpPr/>
            <p:nvPr/>
          </p:nvGrpSpPr>
          <p:grpSpPr>
            <a:xfrm>
              <a:off x="4157280" y="2000160"/>
              <a:ext cx="811440" cy="576360"/>
              <a:chOff x="4157280" y="2000160"/>
              <a:chExt cx="811440" cy="576360"/>
            </a:xfrm>
          </p:grpSpPr>
          <p:pic>
            <p:nvPicPr>
              <p:cNvPr id="102" name="Арка 24" descr=""/>
              <p:cNvPicPr/>
              <p:nvPr/>
            </p:nvPicPr>
            <p:blipFill>
              <a:blip r:embed="rId4"/>
              <a:stretch/>
            </p:blipFill>
            <p:spPr>
              <a:xfrm>
                <a:off x="4157280" y="2000160"/>
                <a:ext cx="8114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4213440" y="2044080"/>
                <a:ext cx="700920" cy="42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" name="Группа 25"/>
          <p:cNvGrpSpPr/>
          <p:nvPr/>
        </p:nvGrpSpPr>
        <p:grpSpPr>
          <a:xfrm>
            <a:off x="4143240" y="4429080"/>
            <a:ext cx="839880" cy="598680"/>
            <a:chOff x="4143240" y="4429080"/>
            <a:chExt cx="839880" cy="598680"/>
          </a:xfrm>
        </p:grpSpPr>
        <p:sp>
          <p:nvSpPr>
            <p:cNvPr id="105" name="Блок-схема: узел 26"/>
            <p:cNvSpPr/>
            <p:nvPr/>
          </p:nvSpPr>
          <p:spPr>
            <a:xfrm>
              <a:off x="4695120" y="4623840"/>
              <a:ext cx="288000" cy="4039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Блок-схема: узел 27"/>
            <p:cNvSpPr/>
            <p:nvPr/>
          </p:nvSpPr>
          <p:spPr>
            <a:xfrm>
              <a:off x="4143240" y="4606920"/>
              <a:ext cx="288000" cy="4039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Арка 28"/>
            <p:cNvGrpSpPr/>
            <p:nvPr/>
          </p:nvGrpSpPr>
          <p:grpSpPr>
            <a:xfrm>
              <a:off x="4157280" y="4429080"/>
              <a:ext cx="811440" cy="581400"/>
              <a:chOff x="4157280" y="4429080"/>
              <a:chExt cx="811440" cy="581400"/>
            </a:xfrm>
          </p:grpSpPr>
          <p:pic>
            <p:nvPicPr>
              <p:cNvPr id="108" name="Арка 28" descr=""/>
              <p:cNvPicPr/>
              <p:nvPr/>
            </p:nvPicPr>
            <p:blipFill>
              <a:blip r:embed="rId5"/>
              <a:stretch/>
            </p:blipFill>
            <p:spPr>
              <a:xfrm>
                <a:off x="4157280" y="4429080"/>
                <a:ext cx="811440" cy="58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4213440" y="4476600"/>
                <a:ext cx="70092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Скругленный прямоугольник 3"/>
          <p:cNvSpPr/>
          <p:nvPr/>
        </p:nvSpPr>
        <p:spPr>
          <a:xfrm>
            <a:off x="142920" y="357120"/>
            <a:ext cx="4357800" cy="6286680"/>
          </a:xfrm>
          <a:custGeom>
            <a:avLst/>
            <a:gdLst>
              <a:gd name="textAreaLeft" fmla="*/ 212400 w 4357800"/>
              <a:gd name="textAreaRight" fmla="*/ 4145400 w 4357800"/>
              <a:gd name="textAreaTop" fmla="*/ 212400 h 6286680"/>
              <a:gd name="textAreaBottom" fmla="*/ 6074280 h 6286680"/>
            </a:gdLst>
            <a:ahLst/>
            <a:rect l="textAreaLeft" t="textAreaTop" r="textAreaRight" b="textAreaBottom"/>
            <a:pathLst>
              <a:path w="21600" h="31160">
                <a:moveTo>
                  <a:pt x="3600" y="0"/>
                </a:moveTo>
                <a:arcTo wR="3600" hR="3600" stAng="16200000" swAng="-5400000"/>
                <a:lnTo>
                  <a:pt x="0" y="27560"/>
                </a:lnTo>
                <a:arcTo wR="3600" hR="3600" stAng="10800000" swAng="-5400000"/>
                <a:lnTo>
                  <a:pt x="18000" y="3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  <a:ea typeface="Lucida Sans Unicode"/>
              </a:rPr>
              <a:t>1. Пояснительная зап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4"/>
          <p:cNvSpPr/>
          <p:nvPr/>
        </p:nvSpPr>
        <p:spPr>
          <a:xfrm>
            <a:off x="4668840" y="299880"/>
            <a:ext cx="4357800" cy="6286680"/>
          </a:xfrm>
          <a:custGeom>
            <a:avLst/>
            <a:gdLst>
              <a:gd name="textAreaLeft" fmla="*/ 212400 w 4357800"/>
              <a:gd name="textAreaRight" fmla="*/ 4145400 w 4357800"/>
              <a:gd name="textAreaTop" fmla="*/ 212400 h 6286680"/>
              <a:gd name="textAreaBottom" fmla="*/ 6074280 h 6286680"/>
            </a:gdLst>
            <a:ahLst/>
            <a:rect l="textAreaLeft" t="textAreaTop" r="textAreaRight" b="textAreaBottom"/>
            <a:pathLst>
              <a:path w="21600" h="31160">
                <a:moveTo>
                  <a:pt x="3600" y="0"/>
                </a:moveTo>
                <a:arcTo wR="3600" hR="3600" stAng="16200000" swAng="-5400000"/>
                <a:lnTo>
                  <a:pt x="0" y="27560"/>
                </a:lnTo>
                <a:arcTo wR="3600" hR="3600" stAng="10800000" swAng="-5400000"/>
                <a:lnTo>
                  <a:pt x="18000" y="3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984807"/>
            </a:solidFill>
            <a:miter/>
          </a:ln>
          <a:effectLst>
            <a:outerShdw dist="38160" dir="108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1) цели и задачи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реализации Програм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2) принципы и подходы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к формированию Програм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3) значимые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 для разработки и реализации Программы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характеристики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, в том числе характеристики особенностей развития детей  раннего и дошкольного возраст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Группа 12"/>
          <p:cNvGrpSpPr/>
          <p:nvPr/>
        </p:nvGrpSpPr>
        <p:grpSpPr>
          <a:xfrm>
            <a:off x="4164120" y="609480"/>
            <a:ext cx="838080" cy="598680"/>
            <a:chOff x="4164120" y="609480"/>
            <a:chExt cx="838080" cy="598680"/>
          </a:xfrm>
        </p:grpSpPr>
        <p:sp>
          <p:nvSpPr>
            <p:cNvPr id="113" name="Блок-схема: узел 10"/>
            <p:cNvSpPr/>
            <p:nvPr/>
          </p:nvSpPr>
          <p:spPr>
            <a:xfrm>
              <a:off x="4714560" y="800640"/>
              <a:ext cx="287640" cy="4075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Блок-схема: узел 11"/>
            <p:cNvSpPr/>
            <p:nvPr/>
          </p:nvSpPr>
          <p:spPr>
            <a:xfrm>
              <a:off x="4164120" y="783720"/>
              <a:ext cx="287640" cy="4075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Арка 9"/>
            <p:cNvGrpSpPr/>
            <p:nvPr/>
          </p:nvGrpSpPr>
          <p:grpSpPr>
            <a:xfrm>
              <a:off x="4182120" y="609480"/>
              <a:ext cx="803880" cy="577800"/>
              <a:chOff x="4182120" y="609480"/>
              <a:chExt cx="803880" cy="577800"/>
            </a:xfrm>
          </p:grpSpPr>
          <p:pic>
            <p:nvPicPr>
              <p:cNvPr id="116" name="Арка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182120" y="609480"/>
                <a:ext cx="803880" cy="57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4234320" y="651960"/>
                <a:ext cx="699480" cy="42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Группа 13"/>
          <p:cNvGrpSpPr/>
          <p:nvPr/>
        </p:nvGrpSpPr>
        <p:grpSpPr>
          <a:xfrm>
            <a:off x="4143240" y="5572080"/>
            <a:ext cx="839880" cy="598680"/>
            <a:chOff x="4143240" y="5572080"/>
            <a:chExt cx="839880" cy="598680"/>
          </a:xfrm>
        </p:grpSpPr>
        <p:sp>
          <p:nvSpPr>
            <p:cNvPr id="119" name="Блок-схема: узел 14"/>
            <p:cNvSpPr/>
            <p:nvPr/>
          </p:nvSpPr>
          <p:spPr>
            <a:xfrm>
              <a:off x="4695120" y="5763960"/>
              <a:ext cx="288000" cy="40680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Блок-схема: узел 15"/>
            <p:cNvSpPr/>
            <p:nvPr/>
          </p:nvSpPr>
          <p:spPr>
            <a:xfrm>
              <a:off x="4143240" y="5747040"/>
              <a:ext cx="288000" cy="40680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Арка 16"/>
            <p:cNvGrpSpPr/>
            <p:nvPr/>
          </p:nvGrpSpPr>
          <p:grpSpPr>
            <a:xfrm>
              <a:off x="4157280" y="5572080"/>
              <a:ext cx="811440" cy="577080"/>
              <a:chOff x="4157280" y="5572080"/>
              <a:chExt cx="811440" cy="577080"/>
            </a:xfrm>
          </p:grpSpPr>
          <p:pic>
            <p:nvPicPr>
              <p:cNvPr id="122" name="Арка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4157280" y="5572080"/>
                <a:ext cx="811440" cy="57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4213440" y="5615640"/>
                <a:ext cx="7009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" name="Группа 17"/>
          <p:cNvGrpSpPr/>
          <p:nvPr/>
        </p:nvGrpSpPr>
        <p:grpSpPr>
          <a:xfrm>
            <a:off x="4143240" y="3214800"/>
            <a:ext cx="839880" cy="598320"/>
            <a:chOff x="4143240" y="3214800"/>
            <a:chExt cx="839880" cy="598320"/>
          </a:xfrm>
        </p:grpSpPr>
        <p:sp>
          <p:nvSpPr>
            <p:cNvPr id="125" name="Блок-схема: узел 18"/>
            <p:cNvSpPr/>
            <p:nvPr/>
          </p:nvSpPr>
          <p:spPr>
            <a:xfrm>
              <a:off x="4695120" y="3408120"/>
              <a:ext cx="288000" cy="40500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Блок-схема: узел 19"/>
            <p:cNvSpPr/>
            <p:nvPr/>
          </p:nvSpPr>
          <p:spPr>
            <a:xfrm>
              <a:off x="4143240" y="3391560"/>
              <a:ext cx="288000" cy="40500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Арка 20"/>
            <p:cNvGrpSpPr/>
            <p:nvPr/>
          </p:nvGrpSpPr>
          <p:grpSpPr>
            <a:xfrm>
              <a:off x="4157280" y="3214800"/>
              <a:ext cx="811440" cy="574200"/>
              <a:chOff x="4157280" y="3214800"/>
              <a:chExt cx="811440" cy="574200"/>
            </a:xfrm>
          </p:grpSpPr>
          <p:pic>
            <p:nvPicPr>
              <p:cNvPr id="128" name="Арка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4157280" y="3214800"/>
                <a:ext cx="811440" cy="57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4213440" y="3260520"/>
                <a:ext cx="700920" cy="4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Группа 21"/>
          <p:cNvGrpSpPr/>
          <p:nvPr/>
        </p:nvGrpSpPr>
        <p:grpSpPr>
          <a:xfrm>
            <a:off x="4143240" y="2000160"/>
            <a:ext cx="839880" cy="598680"/>
            <a:chOff x="4143240" y="2000160"/>
            <a:chExt cx="839880" cy="598680"/>
          </a:xfrm>
        </p:grpSpPr>
        <p:sp>
          <p:nvSpPr>
            <p:cNvPr id="131" name="Блок-схема: узел 22"/>
            <p:cNvSpPr/>
            <p:nvPr/>
          </p:nvSpPr>
          <p:spPr>
            <a:xfrm>
              <a:off x="4695120" y="2192400"/>
              <a:ext cx="288000" cy="40644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Блок-схема: узел 23"/>
            <p:cNvSpPr/>
            <p:nvPr/>
          </p:nvSpPr>
          <p:spPr>
            <a:xfrm>
              <a:off x="4143240" y="2175480"/>
              <a:ext cx="288000" cy="40644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Арка 24"/>
            <p:cNvGrpSpPr/>
            <p:nvPr/>
          </p:nvGrpSpPr>
          <p:grpSpPr>
            <a:xfrm>
              <a:off x="4157280" y="2000160"/>
              <a:ext cx="811440" cy="576360"/>
              <a:chOff x="4157280" y="2000160"/>
              <a:chExt cx="811440" cy="576360"/>
            </a:xfrm>
          </p:grpSpPr>
          <p:pic>
            <p:nvPicPr>
              <p:cNvPr id="134" name="Арка 24" descr=""/>
              <p:cNvPicPr/>
              <p:nvPr/>
            </p:nvPicPr>
            <p:blipFill>
              <a:blip r:embed="rId4"/>
              <a:stretch/>
            </p:blipFill>
            <p:spPr>
              <a:xfrm>
                <a:off x="4157280" y="2000160"/>
                <a:ext cx="8114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4213440" y="2044080"/>
                <a:ext cx="700920" cy="42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" name="Группа 25"/>
          <p:cNvGrpSpPr/>
          <p:nvPr/>
        </p:nvGrpSpPr>
        <p:grpSpPr>
          <a:xfrm>
            <a:off x="4143240" y="4429080"/>
            <a:ext cx="839880" cy="598680"/>
            <a:chOff x="4143240" y="4429080"/>
            <a:chExt cx="839880" cy="598680"/>
          </a:xfrm>
        </p:grpSpPr>
        <p:sp>
          <p:nvSpPr>
            <p:cNvPr id="137" name="Блок-схема: узел 26"/>
            <p:cNvSpPr/>
            <p:nvPr/>
          </p:nvSpPr>
          <p:spPr>
            <a:xfrm>
              <a:off x="4695120" y="4623840"/>
              <a:ext cx="288000" cy="4039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Блок-схема: узел 27"/>
            <p:cNvSpPr/>
            <p:nvPr/>
          </p:nvSpPr>
          <p:spPr>
            <a:xfrm>
              <a:off x="4143240" y="4606920"/>
              <a:ext cx="288000" cy="4039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Арка 28"/>
            <p:cNvGrpSpPr/>
            <p:nvPr/>
          </p:nvGrpSpPr>
          <p:grpSpPr>
            <a:xfrm>
              <a:off x="4157280" y="4429080"/>
              <a:ext cx="811440" cy="581400"/>
              <a:chOff x="4157280" y="4429080"/>
              <a:chExt cx="811440" cy="581400"/>
            </a:xfrm>
          </p:grpSpPr>
          <p:pic>
            <p:nvPicPr>
              <p:cNvPr id="140" name="Арка 28" descr=""/>
              <p:cNvPicPr/>
              <p:nvPr/>
            </p:nvPicPr>
            <p:blipFill>
              <a:blip r:embed="rId5"/>
              <a:stretch/>
            </p:blipFill>
            <p:spPr>
              <a:xfrm>
                <a:off x="4157280" y="4429080"/>
                <a:ext cx="811440" cy="58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>
                <a:off x="4213440" y="4476600"/>
                <a:ext cx="70092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Скругленный прямоугольник 3"/>
          <p:cNvSpPr/>
          <p:nvPr/>
        </p:nvSpPr>
        <p:spPr>
          <a:xfrm>
            <a:off x="142920" y="357120"/>
            <a:ext cx="4357800" cy="6286680"/>
          </a:xfrm>
          <a:custGeom>
            <a:avLst/>
            <a:gdLst>
              <a:gd name="textAreaLeft" fmla="*/ 212400 w 4357800"/>
              <a:gd name="textAreaRight" fmla="*/ 4145400 w 4357800"/>
              <a:gd name="textAreaTop" fmla="*/ 212400 h 6286680"/>
              <a:gd name="textAreaBottom" fmla="*/ 6074280 h 6286680"/>
            </a:gdLst>
            <a:ahLst/>
            <a:rect l="textAreaLeft" t="textAreaTop" r="textAreaRight" b="textAreaBottom"/>
            <a:pathLst>
              <a:path w="21600" h="31160">
                <a:moveTo>
                  <a:pt x="3600" y="0"/>
                </a:moveTo>
                <a:arcTo wR="3600" hR="3600" stAng="16200000" swAng="-5400000"/>
                <a:lnTo>
                  <a:pt x="0" y="27560"/>
                </a:lnTo>
                <a:arcTo wR="3600" hR="3600" stAng="10800000" swAng="-5400000"/>
                <a:lnTo>
                  <a:pt x="18000" y="3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  <a:ea typeface="Lucida Sans Unicode"/>
              </a:rPr>
              <a:t>2. Планируем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4"/>
          <p:cNvSpPr/>
          <p:nvPr/>
        </p:nvSpPr>
        <p:spPr>
          <a:xfrm>
            <a:off x="4668840" y="299880"/>
            <a:ext cx="4357800" cy="6286680"/>
          </a:xfrm>
          <a:custGeom>
            <a:avLst/>
            <a:gdLst>
              <a:gd name="textAreaLeft" fmla="*/ 212400 w 4357800"/>
              <a:gd name="textAreaRight" fmla="*/ 4145400 w 4357800"/>
              <a:gd name="textAreaTop" fmla="*/ 212400 h 6286680"/>
              <a:gd name="textAreaBottom" fmla="*/ 6074280 h 6286680"/>
            </a:gdLst>
            <a:ahLst/>
            <a:rect l="textAreaLeft" t="textAreaTop" r="textAreaRight" b="textAreaBottom"/>
            <a:pathLst>
              <a:path w="21600" h="31160">
                <a:moveTo>
                  <a:pt x="3600" y="0"/>
                </a:moveTo>
                <a:arcTo wR="3600" hR="3600" stAng="16200000" swAng="-5400000"/>
                <a:lnTo>
                  <a:pt x="0" y="27560"/>
                </a:lnTo>
                <a:arcTo wR="3600" hR="3600" stAng="10800000" swAng="-5400000"/>
                <a:lnTo>
                  <a:pt x="18000" y="3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984807"/>
            </a:solidFill>
            <a:miter/>
          </a:ln>
          <a:effectLst>
            <a:outerShdw dist="38160" dir="108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 Unicode MS"/>
              </a:rPr>
              <a:t>конкретизация требований Стандарта к целевым ориентирам в обязательной части и части, формируемой участниками образовательных отношений, с учетом возрастных возможностей и индивидуальных различий (индивидуальных траекторий развития) детей, а также особенностей развития детей с ограниченными возможностями здоровья, в том числе детей-инвали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Группа 12"/>
          <p:cNvGrpSpPr/>
          <p:nvPr/>
        </p:nvGrpSpPr>
        <p:grpSpPr>
          <a:xfrm>
            <a:off x="4164120" y="609480"/>
            <a:ext cx="838080" cy="598680"/>
            <a:chOff x="4164120" y="609480"/>
            <a:chExt cx="838080" cy="598680"/>
          </a:xfrm>
        </p:grpSpPr>
        <p:sp>
          <p:nvSpPr>
            <p:cNvPr id="145" name="Блок-схема: узел 10"/>
            <p:cNvSpPr/>
            <p:nvPr/>
          </p:nvSpPr>
          <p:spPr>
            <a:xfrm>
              <a:off x="4714560" y="800640"/>
              <a:ext cx="287640" cy="4075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Блок-схема: узел 11"/>
            <p:cNvSpPr/>
            <p:nvPr/>
          </p:nvSpPr>
          <p:spPr>
            <a:xfrm>
              <a:off x="4164120" y="783720"/>
              <a:ext cx="287640" cy="4075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Арка 9"/>
            <p:cNvGrpSpPr/>
            <p:nvPr/>
          </p:nvGrpSpPr>
          <p:grpSpPr>
            <a:xfrm>
              <a:off x="4182120" y="609480"/>
              <a:ext cx="803880" cy="577800"/>
              <a:chOff x="4182120" y="609480"/>
              <a:chExt cx="803880" cy="577800"/>
            </a:xfrm>
          </p:grpSpPr>
          <p:pic>
            <p:nvPicPr>
              <p:cNvPr id="148" name="Арка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182120" y="609480"/>
                <a:ext cx="803880" cy="57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>
                <a:off x="4234320" y="651960"/>
                <a:ext cx="699480" cy="42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0" name="Группа 13"/>
          <p:cNvGrpSpPr/>
          <p:nvPr/>
        </p:nvGrpSpPr>
        <p:grpSpPr>
          <a:xfrm>
            <a:off x="4143240" y="5572080"/>
            <a:ext cx="839880" cy="598680"/>
            <a:chOff x="4143240" y="5572080"/>
            <a:chExt cx="839880" cy="598680"/>
          </a:xfrm>
        </p:grpSpPr>
        <p:sp>
          <p:nvSpPr>
            <p:cNvPr id="151" name="Блок-схема: узел 14"/>
            <p:cNvSpPr/>
            <p:nvPr/>
          </p:nvSpPr>
          <p:spPr>
            <a:xfrm>
              <a:off x="4695120" y="5763960"/>
              <a:ext cx="288000" cy="40680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Блок-схема: узел 15"/>
            <p:cNvSpPr/>
            <p:nvPr/>
          </p:nvSpPr>
          <p:spPr>
            <a:xfrm>
              <a:off x="4143240" y="5747040"/>
              <a:ext cx="288000" cy="40680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Арка 16"/>
            <p:cNvGrpSpPr/>
            <p:nvPr/>
          </p:nvGrpSpPr>
          <p:grpSpPr>
            <a:xfrm>
              <a:off x="4157280" y="5572080"/>
              <a:ext cx="811440" cy="577080"/>
              <a:chOff x="4157280" y="5572080"/>
              <a:chExt cx="811440" cy="577080"/>
            </a:xfrm>
          </p:grpSpPr>
          <p:pic>
            <p:nvPicPr>
              <p:cNvPr id="154" name="Арка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4157280" y="5572080"/>
                <a:ext cx="811440" cy="57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4213440" y="5615640"/>
                <a:ext cx="7009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Группа 17"/>
          <p:cNvGrpSpPr/>
          <p:nvPr/>
        </p:nvGrpSpPr>
        <p:grpSpPr>
          <a:xfrm>
            <a:off x="4143240" y="3214800"/>
            <a:ext cx="839880" cy="598320"/>
            <a:chOff x="4143240" y="3214800"/>
            <a:chExt cx="839880" cy="598320"/>
          </a:xfrm>
        </p:grpSpPr>
        <p:sp>
          <p:nvSpPr>
            <p:cNvPr id="157" name="Блок-схема: узел 18"/>
            <p:cNvSpPr/>
            <p:nvPr/>
          </p:nvSpPr>
          <p:spPr>
            <a:xfrm>
              <a:off x="4695120" y="3408120"/>
              <a:ext cx="288000" cy="40500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Блок-схема: узел 19"/>
            <p:cNvSpPr/>
            <p:nvPr/>
          </p:nvSpPr>
          <p:spPr>
            <a:xfrm>
              <a:off x="4143240" y="3391560"/>
              <a:ext cx="288000" cy="40500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Арка 20"/>
            <p:cNvGrpSpPr/>
            <p:nvPr/>
          </p:nvGrpSpPr>
          <p:grpSpPr>
            <a:xfrm>
              <a:off x="4157280" y="3214800"/>
              <a:ext cx="811440" cy="574200"/>
              <a:chOff x="4157280" y="3214800"/>
              <a:chExt cx="811440" cy="574200"/>
            </a:xfrm>
          </p:grpSpPr>
          <p:pic>
            <p:nvPicPr>
              <p:cNvPr id="160" name="Арка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4157280" y="3214800"/>
                <a:ext cx="811440" cy="57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>
                <a:off x="4213440" y="3260520"/>
                <a:ext cx="700920" cy="4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Группа 21"/>
          <p:cNvGrpSpPr/>
          <p:nvPr/>
        </p:nvGrpSpPr>
        <p:grpSpPr>
          <a:xfrm>
            <a:off x="4143240" y="2000160"/>
            <a:ext cx="839880" cy="598680"/>
            <a:chOff x="4143240" y="2000160"/>
            <a:chExt cx="839880" cy="598680"/>
          </a:xfrm>
        </p:grpSpPr>
        <p:sp>
          <p:nvSpPr>
            <p:cNvPr id="163" name="Блок-схема: узел 22"/>
            <p:cNvSpPr/>
            <p:nvPr/>
          </p:nvSpPr>
          <p:spPr>
            <a:xfrm>
              <a:off x="4695120" y="2192400"/>
              <a:ext cx="288000" cy="40644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Блок-схема: узел 23"/>
            <p:cNvSpPr/>
            <p:nvPr/>
          </p:nvSpPr>
          <p:spPr>
            <a:xfrm>
              <a:off x="4143240" y="2175480"/>
              <a:ext cx="288000" cy="40644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Арка 24"/>
            <p:cNvGrpSpPr/>
            <p:nvPr/>
          </p:nvGrpSpPr>
          <p:grpSpPr>
            <a:xfrm>
              <a:off x="4157280" y="2000160"/>
              <a:ext cx="811440" cy="576360"/>
              <a:chOff x="4157280" y="2000160"/>
              <a:chExt cx="811440" cy="576360"/>
            </a:xfrm>
          </p:grpSpPr>
          <p:pic>
            <p:nvPicPr>
              <p:cNvPr id="166" name="Арка 24" descr=""/>
              <p:cNvPicPr/>
              <p:nvPr/>
            </p:nvPicPr>
            <p:blipFill>
              <a:blip r:embed="rId4"/>
              <a:stretch/>
            </p:blipFill>
            <p:spPr>
              <a:xfrm>
                <a:off x="4157280" y="2000160"/>
                <a:ext cx="8114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"/>
              <p:cNvSpPr/>
              <p:nvPr/>
            </p:nvSpPr>
            <p:spPr>
              <a:xfrm>
                <a:off x="4213440" y="2044080"/>
                <a:ext cx="700920" cy="42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Группа 25"/>
          <p:cNvGrpSpPr/>
          <p:nvPr/>
        </p:nvGrpSpPr>
        <p:grpSpPr>
          <a:xfrm>
            <a:off x="4143240" y="4429080"/>
            <a:ext cx="839880" cy="598680"/>
            <a:chOff x="4143240" y="4429080"/>
            <a:chExt cx="839880" cy="598680"/>
          </a:xfrm>
        </p:grpSpPr>
        <p:sp>
          <p:nvSpPr>
            <p:cNvPr id="169" name="Блок-схема: узел 26"/>
            <p:cNvSpPr/>
            <p:nvPr/>
          </p:nvSpPr>
          <p:spPr>
            <a:xfrm>
              <a:off x="4695120" y="4623840"/>
              <a:ext cx="288000" cy="4039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Блок-схема: узел 27"/>
            <p:cNvSpPr/>
            <p:nvPr/>
          </p:nvSpPr>
          <p:spPr>
            <a:xfrm>
              <a:off x="4143240" y="4606920"/>
              <a:ext cx="288000" cy="4039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Арка 28"/>
            <p:cNvGrpSpPr/>
            <p:nvPr/>
          </p:nvGrpSpPr>
          <p:grpSpPr>
            <a:xfrm>
              <a:off x="4157280" y="4429080"/>
              <a:ext cx="811440" cy="581400"/>
              <a:chOff x="4157280" y="4429080"/>
              <a:chExt cx="811440" cy="581400"/>
            </a:xfrm>
          </p:grpSpPr>
          <p:pic>
            <p:nvPicPr>
              <p:cNvPr id="172" name="Арка 28" descr=""/>
              <p:cNvPicPr/>
              <p:nvPr/>
            </p:nvPicPr>
            <p:blipFill>
              <a:blip r:embed="rId5"/>
              <a:stretch/>
            </p:blipFill>
            <p:spPr>
              <a:xfrm>
                <a:off x="4157280" y="4429080"/>
                <a:ext cx="811440" cy="58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4213440" y="4476600"/>
                <a:ext cx="70092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Скругленный прямоугольник 3"/>
          <p:cNvSpPr/>
          <p:nvPr/>
        </p:nvSpPr>
        <p:spPr>
          <a:xfrm>
            <a:off x="142920" y="357120"/>
            <a:ext cx="4357800" cy="6286680"/>
          </a:xfrm>
          <a:custGeom>
            <a:avLst/>
            <a:gdLst>
              <a:gd name="textAreaLeft" fmla="*/ 212400 w 4357800"/>
              <a:gd name="textAreaRight" fmla="*/ 4145400 w 4357800"/>
              <a:gd name="textAreaTop" fmla="*/ 212400 h 6286680"/>
              <a:gd name="textAreaBottom" fmla="*/ 6074280 h 6286680"/>
            </a:gdLst>
            <a:ahLst/>
            <a:rect l="textAreaLeft" t="textAreaTop" r="textAreaRight" b="textAreaBottom"/>
            <a:pathLst>
              <a:path w="21600" h="31160">
                <a:moveTo>
                  <a:pt x="3600" y="0"/>
                </a:moveTo>
                <a:arcTo wR="3600" hR="3600" stAng="16200000" swAng="-5400000"/>
                <a:lnTo>
                  <a:pt x="0" y="27560"/>
                </a:lnTo>
                <a:arcTo wR="3600" hR="3600" stAng="10800000" swAng="-5400000"/>
                <a:lnTo>
                  <a:pt x="18000" y="3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  <a:ea typeface="Lucida Sans Unicode"/>
              </a:rPr>
              <a:t>II. </a:t>
            </a:r>
            <a:r>
              <a:rPr b="0" lang="ru-RU" sz="3200" spc="-1" strike="noStrike">
                <a:solidFill>
                  <a:srgbClr val="002060"/>
                </a:solidFill>
                <a:latin typeface="Lucida Sans Unicode"/>
                <a:ea typeface="Lucida Sans Unicode"/>
              </a:rPr>
              <a:t>Содержательный разд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кругленный прямоугольник 4"/>
          <p:cNvSpPr/>
          <p:nvPr/>
        </p:nvSpPr>
        <p:spPr>
          <a:xfrm>
            <a:off x="4668840" y="299880"/>
            <a:ext cx="4357800" cy="6286680"/>
          </a:xfrm>
          <a:custGeom>
            <a:avLst/>
            <a:gdLst>
              <a:gd name="textAreaLeft" fmla="*/ 212400 w 4357800"/>
              <a:gd name="textAreaRight" fmla="*/ 4145400 w 4357800"/>
              <a:gd name="textAreaTop" fmla="*/ 212400 h 6286680"/>
              <a:gd name="textAreaBottom" fmla="*/ 6074280 h 6286680"/>
            </a:gdLst>
            <a:ahLst/>
            <a:rect l="textAreaLeft" t="textAreaTop" r="textAreaRight" b="textAreaBottom"/>
            <a:pathLst>
              <a:path w="21600" h="31160">
                <a:moveTo>
                  <a:pt x="3600" y="0"/>
                </a:moveTo>
                <a:arcTo wR="3600" hR="3600" stAng="16200000" swAng="-5400000"/>
                <a:lnTo>
                  <a:pt x="0" y="27560"/>
                </a:lnTo>
                <a:arcTo wR="3600" hR="3600" stAng="10800000" swAng="-5400000"/>
                <a:lnTo>
                  <a:pt x="18000" y="3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984807"/>
            </a:solidFill>
            <a:miter/>
          </a:ln>
          <a:effectLst>
            <a:outerShdw dist="38160" dir="108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1. О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писание образовательной деятельности в соответствии с направлениями развития ребенка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, представленными в пяти образовательных област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2. О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писание вариативных форм, способов, методов и средств 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реализации Програм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3. О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писание образовательной деятельности по профессиональной коррекции 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нарушений развития детей в случае, если эта работа предусмотрена Програм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Группа 12"/>
          <p:cNvGrpSpPr/>
          <p:nvPr/>
        </p:nvGrpSpPr>
        <p:grpSpPr>
          <a:xfrm>
            <a:off x="4164120" y="609480"/>
            <a:ext cx="838080" cy="598680"/>
            <a:chOff x="4164120" y="609480"/>
            <a:chExt cx="838080" cy="598680"/>
          </a:xfrm>
        </p:grpSpPr>
        <p:sp>
          <p:nvSpPr>
            <p:cNvPr id="177" name="Блок-схема: узел 10"/>
            <p:cNvSpPr/>
            <p:nvPr/>
          </p:nvSpPr>
          <p:spPr>
            <a:xfrm>
              <a:off x="4714560" y="800640"/>
              <a:ext cx="287640" cy="4075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Блок-схема: узел 11"/>
            <p:cNvSpPr/>
            <p:nvPr/>
          </p:nvSpPr>
          <p:spPr>
            <a:xfrm>
              <a:off x="4164120" y="783720"/>
              <a:ext cx="287640" cy="4075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Арка 9"/>
            <p:cNvGrpSpPr/>
            <p:nvPr/>
          </p:nvGrpSpPr>
          <p:grpSpPr>
            <a:xfrm>
              <a:off x="4182120" y="609480"/>
              <a:ext cx="803880" cy="577800"/>
              <a:chOff x="4182120" y="609480"/>
              <a:chExt cx="803880" cy="577800"/>
            </a:xfrm>
          </p:grpSpPr>
          <p:pic>
            <p:nvPicPr>
              <p:cNvPr id="180" name="Арка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182120" y="609480"/>
                <a:ext cx="803880" cy="57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4234320" y="651960"/>
                <a:ext cx="699480" cy="42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" name="Группа 13"/>
          <p:cNvGrpSpPr/>
          <p:nvPr/>
        </p:nvGrpSpPr>
        <p:grpSpPr>
          <a:xfrm>
            <a:off x="4143240" y="5572080"/>
            <a:ext cx="839880" cy="598680"/>
            <a:chOff x="4143240" y="5572080"/>
            <a:chExt cx="839880" cy="598680"/>
          </a:xfrm>
        </p:grpSpPr>
        <p:sp>
          <p:nvSpPr>
            <p:cNvPr id="183" name="Блок-схема: узел 14"/>
            <p:cNvSpPr/>
            <p:nvPr/>
          </p:nvSpPr>
          <p:spPr>
            <a:xfrm>
              <a:off x="4695120" y="5763960"/>
              <a:ext cx="288000" cy="40680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Блок-схема: узел 15"/>
            <p:cNvSpPr/>
            <p:nvPr/>
          </p:nvSpPr>
          <p:spPr>
            <a:xfrm>
              <a:off x="4143240" y="5747040"/>
              <a:ext cx="288000" cy="40680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Арка 16"/>
            <p:cNvGrpSpPr/>
            <p:nvPr/>
          </p:nvGrpSpPr>
          <p:grpSpPr>
            <a:xfrm>
              <a:off x="4157280" y="5572080"/>
              <a:ext cx="811440" cy="577080"/>
              <a:chOff x="4157280" y="5572080"/>
              <a:chExt cx="811440" cy="577080"/>
            </a:xfrm>
          </p:grpSpPr>
          <p:pic>
            <p:nvPicPr>
              <p:cNvPr id="186" name="Арка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4157280" y="5572080"/>
                <a:ext cx="811440" cy="57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4213440" y="5615640"/>
                <a:ext cx="7009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" name="Группа 17"/>
          <p:cNvGrpSpPr/>
          <p:nvPr/>
        </p:nvGrpSpPr>
        <p:grpSpPr>
          <a:xfrm>
            <a:off x="4143240" y="3214800"/>
            <a:ext cx="839880" cy="598320"/>
            <a:chOff x="4143240" y="3214800"/>
            <a:chExt cx="839880" cy="598320"/>
          </a:xfrm>
        </p:grpSpPr>
        <p:sp>
          <p:nvSpPr>
            <p:cNvPr id="189" name="Блок-схема: узел 18"/>
            <p:cNvSpPr/>
            <p:nvPr/>
          </p:nvSpPr>
          <p:spPr>
            <a:xfrm>
              <a:off x="4695120" y="3408120"/>
              <a:ext cx="288000" cy="40500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Блок-схема: узел 19"/>
            <p:cNvSpPr/>
            <p:nvPr/>
          </p:nvSpPr>
          <p:spPr>
            <a:xfrm>
              <a:off x="4143240" y="3391560"/>
              <a:ext cx="288000" cy="40500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Арка 20"/>
            <p:cNvGrpSpPr/>
            <p:nvPr/>
          </p:nvGrpSpPr>
          <p:grpSpPr>
            <a:xfrm>
              <a:off x="4157280" y="3214800"/>
              <a:ext cx="811440" cy="574200"/>
              <a:chOff x="4157280" y="3214800"/>
              <a:chExt cx="811440" cy="574200"/>
            </a:xfrm>
          </p:grpSpPr>
          <p:pic>
            <p:nvPicPr>
              <p:cNvPr id="192" name="Арка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4157280" y="3214800"/>
                <a:ext cx="811440" cy="57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4213440" y="3260520"/>
                <a:ext cx="700920" cy="4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4" name="Группа 21"/>
          <p:cNvGrpSpPr/>
          <p:nvPr/>
        </p:nvGrpSpPr>
        <p:grpSpPr>
          <a:xfrm>
            <a:off x="4143240" y="2000160"/>
            <a:ext cx="839880" cy="598680"/>
            <a:chOff x="4143240" y="2000160"/>
            <a:chExt cx="839880" cy="598680"/>
          </a:xfrm>
        </p:grpSpPr>
        <p:sp>
          <p:nvSpPr>
            <p:cNvPr id="195" name="Блок-схема: узел 22"/>
            <p:cNvSpPr/>
            <p:nvPr/>
          </p:nvSpPr>
          <p:spPr>
            <a:xfrm>
              <a:off x="4695120" y="2192400"/>
              <a:ext cx="288000" cy="40644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Блок-схема: узел 23"/>
            <p:cNvSpPr/>
            <p:nvPr/>
          </p:nvSpPr>
          <p:spPr>
            <a:xfrm>
              <a:off x="4143240" y="2175480"/>
              <a:ext cx="288000" cy="40644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Арка 24"/>
            <p:cNvGrpSpPr/>
            <p:nvPr/>
          </p:nvGrpSpPr>
          <p:grpSpPr>
            <a:xfrm>
              <a:off x="4157280" y="2000160"/>
              <a:ext cx="811440" cy="576360"/>
              <a:chOff x="4157280" y="2000160"/>
              <a:chExt cx="811440" cy="576360"/>
            </a:xfrm>
          </p:grpSpPr>
          <p:pic>
            <p:nvPicPr>
              <p:cNvPr id="198" name="Арка 24" descr=""/>
              <p:cNvPicPr/>
              <p:nvPr/>
            </p:nvPicPr>
            <p:blipFill>
              <a:blip r:embed="rId4"/>
              <a:stretch/>
            </p:blipFill>
            <p:spPr>
              <a:xfrm>
                <a:off x="4157280" y="2000160"/>
                <a:ext cx="8114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4213440" y="2044080"/>
                <a:ext cx="700920" cy="42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Группа 25"/>
          <p:cNvGrpSpPr/>
          <p:nvPr/>
        </p:nvGrpSpPr>
        <p:grpSpPr>
          <a:xfrm>
            <a:off x="4143240" y="4429080"/>
            <a:ext cx="839880" cy="598680"/>
            <a:chOff x="4143240" y="4429080"/>
            <a:chExt cx="839880" cy="598680"/>
          </a:xfrm>
        </p:grpSpPr>
        <p:sp>
          <p:nvSpPr>
            <p:cNvPr id="201" name="Блок-схема: узел 26"/>
            <p:cNvSpPr/>
            <p:nvPr/>
          </p:nvSpPr>
          <p:spPr>
            <a:xfrm>
              <a:off x="4695120" y="4623840"/>
              <a:ext cx="288000" cy="4039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Блок-схема: узел 27"/>
            <p:cNvSpPr/>
            <p:nvPr/>
          </p:nvSpPr>
          <p:spPr>
            <a:xfrm>
              <a:off x="4143240" y="4606920"/>
              <a:ext cx="288000" cy="4039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Арка 28"/>
            <p:cNvGrpSpPr/>
            <p:nvPr/>
          </p:nvGrpSpPr>
          <p:grpSpPr>
            <a:xfrm>
              <a:off x="4157280" y="4429080"/>
              <a:ext cx="811440" cy="581400"/>
              <a:chOff x="4157280" y="4429080"/>
              <a:chExt cx="811440" cy="581400"/>
            </a:xfrm>
          </p:grpSpPr>
          <p:pic>
            <p:nvPicPr>
              <p:cNvPr id="204" name="Арка 28" descr=""/>
              <p:cNvPicPr/>
              <p:nvPr/>
            </p:nvPicPr>
            <p:blipFill>
              <a:blip r:embed="rId5"/>
              <a:stretch/>
            </p:blipFill>
            <p:spPr>
              <a:xfrm>
                <a:off x="4157280" y="4429080"/>
                <a:ext cx="811440" cy="58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>
                <a:off x="4213440" y="4476600"/>
                <a:ext cx="70092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Скругленный прямоугольник 3"/>
          <p:cNvSpPr/>
          <p:nvPr/>
        </p:nvSpPr>
        <p:spPr>
          <a:xfrm>
            <a:off x="142920" y="357120"/>
            <a:ext cx="4357800" cy="6286680"/>
          </a:xfrm>
          <a:custGeom>
            <a:avLst/>
            <a:gdLst>
              <a:gd name="textAreaLeft" fmla="*/ 212400 w 4357800"/>
              <a:gd name="textAreaRight" fmla="*/ 4145400 w 4357800"/>
              <a:gd name="textAreaTop" fmla="*/ 212400 h 6286680"/>
              <a:gd name="textAreaBottom" fmla="*/ 6074280 h 6286680"/>
            </a:gdLst>
            <a:ahLst/>
            <a:rect l="textAreaLeft" t="textAreaTop" r="textAreaRight" b="textAreaBottom"/>
            <a:pathLst>
              <a:path w="21600" h="31160">
                <a:moveTo>
                  <a:pt x="3600" y="0"/>
                </a:moveTo>
                <a:arcTo wR="3600" hR="3600" stAng="16200000" swAng="-5400000"/>
                <a:lnTo>
                  <a:pt x="0" y="27560"/>
                </a:lnTo>
                <a:arcTo wR="3600" hR="3600" stAng="10800000" swAng="-5400000"/>
                <a:lnTo>
                  <a:pt x="18000" y="3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Lucida Sans Unicode"/>
                <a:ea typeface="Lucida Sans Unicode"/>
              </a:rPr>
              <a:t>1</a:t>
            </a:r>
            <a:r>
              <a:rPr b="0" lang="en-US" sz="3200" spc="-1" strike="noStrike">
                <a:solidFill>
                  <a:srgbClr val="002060"/>
                </a:solidFill>
                <a:latin typeface="Lucida Sans Unicode"/>
                <a:ea typeface="Lucida Sans Unicode"/>
              </a:rPr>
              <a:t>. </a:t>
            </a:r>
            <a:r>
              <a:rPr b="0" lang="ru-RU" sz="3200" spc="-1" strike="noStrike">
                <a:solidFill>
                  <a:srgbClr val="002060"/>
                </a:solidFill>
                <a:latin typeface="Lucida Sans Unicode"/>
                <a:ea typeface="Lucida Sans Unicode"/>
              </a:rPr>
              <a:t>Описание (Содержание) образователь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кругленный прямоугольник 4"/>
          <p:cNvSpPr/>
          <p:nvPr/>
        </p:nvSpPr>
        <p:spPr>
          <a:xfrm>
            <a:off x="4668840" y="299880"/>
            <a:ext cx="4357800" cy="6286680"/>
          </a:xfrm>
          <a:custGeom>
            <a:avLst/>
            <a:gdLst>
              <a:gd name="textAreaLeft" fmla="*/ 212400 w 4357800"/>
              <a:gd name="textAreaRight" fmla="*/ 4145400 w 4357800"/>
              <a:gd name="textAreaTop" fmla="*/ 212400 h 6286680"/>
              <a:gd name="textAreaBottom" fmla="*/ 6074280 h 6286680"/>
            </a:gdLst>
            <a:ahLst/>
            <a:rect l="textAreaLeft" t="textAreaTop" r="textAreaRight" b="textAreaBottom"/>
            <a:pathLst>
              <a:path w="21600" h="31160">
                <a:moveTo>
                  <a:pt x="3600" y="0"/>
                </a:moveTo>
                <a:arcTo wR="3600" hR="3600" stAng="16200000" swAng="-5400000"/>
                <a:lnTo>
                  <a:pt x="0" y="27560"/>
                </a:lnTo>
                <a:arcTo wR="3600" hR="3600" stAng="10800000" swAng="-5400000"/>
                <a:lnTo>
                  <a:pt x="18000" y="3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984807"/>
            </a:solidFill>
            <a:miter/>
          </a:ln>
          <a:effectLst>
            <a:outerShdw dist="38160" dir="108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Социально-коммуникативн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Познавательн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Речев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Художественно-эстетическ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Физическ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Группа 12"/>
          <p:cNvGrpSpPr/>
          <p:nvPr/>
        </p:nvGrpSpPr>
        <p:grpSpPr>
          <a:xfrm>
            <a:off x="4164120" y="609480"/>
            <a:ext cx="838080" cy="598680"/>
            <a:chOff x="4164120" y="609480"/>
            <a:chExt cx="838080" cy="598680"/>
          </a:xfrm>
        </p:grpSpPr>
        <p:sp>
          <p:nvSpPr>
            <p:cNvPr id="209" name="Блок-схема: узел 10"/>
            <p:cNvSpPr/>
            <p:nvPr/>
          </p:nvSpPr>
          <p:spPr>
            <a:xfrm>
              <a:off x="4714560" y="800640"/>
              <a:ext cx="287640" cy="4075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Блок-схема: узел 11"/>
            <p:cNvSpPr/>
            <p:nvPr/>
          </p:nvSpPr>
          <p:spPr>
            <a:xfrm>
              <a:off x="4164120" y="783720"/>
              <a:ext cx="287640" cy="4075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Арка 9"/>
            <p:cNvGrpSpPr/>
            <p:nvPr/>
          </p:nvGrpSpPr>
          <p:grpSpPr>
            <a:xfrm>
              <a:off x="4182120" y="609480"/>
              <a:ext cx="803880" cy="577800"/>
              <a:chOff x="4182120" y="609480"/>
              <a:chExt cx="803880" cy="577800"/>
            </a:xfrm>
          </p:grpSpPr>
          <p:pic>
            <p:nvPicPr>
              <p:cNvPr id="212" name="Арка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182120" y="609480"/>
                <a:ext cx="803880" cy="57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>
                <a:off x="4234320" y="651960"/>
                <a:ext cx="699480" cy="42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4" name="Группа 13"/>
          <p:cNvGrpSpPr/>
          <p:nvPr/>
        </p:nvGrpSpPr>
        <p:grpSpPr>
          <a:xfrm>
            <a:off x="4143240" y="5572080"/>
            <a:ext cx="839880" cy="598680"/>
            <a:chOff x="4143240" y="5572080"/>
            <a:chExt cx="839880" cy="598680"/>
          </a:xfrm>
        </p:grpSpPr>
        <p:sp>
          <p:nvSpPr>
            <p:cNvPr id="215" name="Блок-схема: узел 14"/>
            <p:cNvSpPr/>
            <p:nvPr/>
          </p:nvSpPr>
          <p:spPr>
            <a:xfrm>
              <a:off x="4695120" y="5763960"/>
              <a:ext cx="288000" cy="40680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Блок-схема: узел 15"/>
            <p:cNvSpPr/>
            <p:nvPr/>
          </p:nvSpPr>
          <p:spPr>
            <a:xfrm>
              <a:off x="4143240" y="5747040"/>
              <a:ext cx="288000" cy="40680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Арка 16"/>
            <p:cNvGrpSpPr/>
            <p:nvPr/>
          </p:nvGrpSpPr>
          <p:grpSpPr>
            <a:xfrm>
              <a:off x="4157280" y="5572080"/>
              <a:ext cx="811440" cy="577080"/>
              <a:chOff x="4157280" y="5572080"/>
              <a:chExt cx="811440" cy="577080"/>
            </a:xfrm>
          </p:grpSpPr>
          <p:pic>
            <p:nvPicPr>
              <p:cNvPr id="218" name="Арка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4157280" y="5572080"/>
                <a:ext cx="811440" cy="57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"/>
              <p:cNvSpPr/>
              <p:nvPr/>
            </p:nvSpPr>
            <p:spPr>
              <a:xfrm>
                <a:off x="4213440" y="5615640"/>
                <a:ext cx="7009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0" name="Группа 17"/>
          <p:cNvGrpSpPr/>
          <p:nvPr/>
        </p:nvGrpSpPr>
        <p:grpSpPr>
          <a:xfrm>
            <a:off x="4143240" y="3214800"/>
            <a:ext cx="839880" cy="598320"/>
            <a:chOff x="4143240" y="3214800"/>
            <a:chExt cx="839880" cy="598320"/>
          </a:xfrm>
        </p:grpSpPr>
        <p:sp>
          <p:nvSpPr>
            <p:cNvPr id="221" name="Блок-схема: узел 18"/>
            <p:cNvSpPr/>
            <p:nvPr/>
          </p:nvSpPr>
          <p:spPr>
            <a:xfrm>
              <a:off x="4695120" y="3408120"/>
              <a:ext cx="288000" cy="40500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Блок-схема: узел 19"/>
            <p:cNvSpPr/>
            <p:nvPr/>
          </p:nvSpPr>
          <p:spPr>
            <a:xfrm>
              <a:off x="4143240" y="3391560"/>
              <a:ext cx="288000" cy="40500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Арка 20"/>
            <p:cNvGrpSpPr/>
            <p:nvPr/>
          </p:nvGrpSpPr>
          <p:grpSpPr>
            <a:xfrm>
              <a:off x="4157280" y="3214800"/>
              <a:ext cx="811440" cy="574200"/>
              <a:chOff x="4157280" y="3214800"/>
              <a:chExt cx="811440" cy="574200"/>
            </a:xfrm>
          </p:grpSpPr>
          <p:pic>
            <p:nvPicPr>
              <p:cNvPr id="224" name="Арка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4157280" y="3214800"/>
                <a:ext cx="811440" cy="57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4213440" y="3260520"/>
                <a:ext cx="700920" cy="4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6" name="Группа 21"/>
          <p:cNvGrpSpPr/>
          <p:nvPr/>
        </p:nvGrpSpPr>
        <p:grpSpPr>
          <a:xfrm>
            <a:off x="4143240" y="2000160"/>
            <a:ext cx="839880" cy="598680"/>
            <a:chOff x="4143240" y="2000160"/>
            <a:chExt cx="839880" cy="598680"/>
          </a:xfrm>
        </p:grpSpPr>
        <p:sp>
          <p:nvSpPr>
            <p:cNvPr id="227" name="Блок-схема: узел 22"/>
            <p:cNvSpPr/>
            <p:nvPr/>
          </p:nvSpPr>
          <p:spPr>
            <a:xfrm>
              <a:off x="4695120" y="2192400"/>
              <a:ext cx="288000" cy="40644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Блок-схема: узел 23"/>
            <p:cNvSpPr/>
            <p:nvPr/>
          </p:nvSpPr>
          <p:spPr>
            <a:xfrm>
              <a:off x="4143240" y="2175480"/>
              <a:ext cx="288000" cy="40644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Арка 24"/>
            <p:cNvGrpSpPr/>
            <p:nvPr/>
          </p:nvGrpSpPr>
          <p:grpSpPr>
            <a:xfrm>
              <a:off x="4157280" y="2000160"/>
              <a:ext cx="811440" cy="576360"/>
              <a:chOff x="4157280" y="2000160"/>
              <a:chExt cx="811440" cy="576360"/>
            </a:xfrm>
          </p:grpSpPr>
          <p:pic>
            <p:nvPicPr>
              <p:cNvPr id="230" name="Арка 24" descr=""/>
              <p:cNvPicPr/>
              <p:nvPr/>
            </p:nvPicPr>
            <p:blipFill>
              <a:blip r:embed="rId4"/>
              <a:stretch/>
            </p:blipFill>
            <p:spPr>
              <a:xfrm>
                <a:off x="4157280" y="2000160"/>
                <a:ext cx="8114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"/>
              <p:cNvSpPr/>
              <p:nvPr/>
            </p:nvSpPr>
            <p:spPr>
              <a:xfrm>
                <a:off x="4213440" y="2044080"/>
                <a:ext cx="700920" cy="42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Группа 25"/>
          <p:cNvGrpSpPr/>
          <p:nvPr/>
        </p:nvGrpSpPr>
        <p:grpSpPr>
          <a:xfrm>
            <a:off x="4143240" y="4429080"/>
            <a:ext cx="839880" cy="598680"/>
            <a:chOff x="4143240" y="4429080"/>
            <a:chExt cx="839880" cy="598680"/>
          </a:xfrm>
        </p:grpSpPr>
        <p:sp>
          <p:nvSpPr>
            <p:cNvPr id="233" name="Блок-схема: узел 26"/>
            <p:cNvSpPr/>
            <p:nvPr/>
          </p:nvSpPr>
          <p:spPr>
            <a:xfrm>
              <a:off x="4695120" y="4623840"/>
              <a:ext cx="288000" cy="4039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Блок-схема: узел 27"/>
            <p:cNvSpPr/>
            <p:nvPr/>
          </p:nvSpPr>
          <p:spPr>
            <a:xfrm>
              <a:off x="4143240" y="4606920"/>
              <a:ext cx="288000" cy="4039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Арка 28"/>
            <p:cNvGrpSpPr/>
            <p:nvPr/>
          </p:nvGrpSpPr>
          <p:grpSpPr>
            <a:xfrm>
              <a:off x="4157280" y="4429080"/>
              <a:ext cx="811440" cy="581400"/>
              <a:chOff x="4157280" y="4429080"/>
              <a:chExt cx="811440" cy="581400"/>
            </a:xfrm>
          </p:grpSpPr>
          <p:pic>
            <p:nvPicPr>
              <p:cNvPr id="236" name="Арка 28" descr=""/>
              <p:cNvPicPr/>
              <p:nvPr/>
            </p:nvPicPr>
            <p:blipFill>
              <a:blip r:embed="rId5"/>
              <a:stretch/>
            </p:blipFill>
            <p:spPr>
              <a:xfrm>
                <a:off x="4157280" y="4429080"/>
                <a:ext cx="811440" cy="58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>
                <a:off x="4213440" y="4476600"/>
                <a:ext cx="70092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95b3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Скругленный прямоугольник 3"/>
          <p:cNvSpPr/>
          <p:nvPr/>
        </p:nvSpPr>
        <p:spPr>
          <a:xfrm>
            <a:off x="142920" y="357120"/>
            <a:ext cx="4357800" cy="6286680"/>
          </a:xfrm>
          <a:custGeom>
            <a:avLst/>
            <a:gdLst>
              <a:gd name="textAreaLeft" fmla="*/ 212400 w 4357800"/>
              <a:gd name="textAreaRight" fmla="*/ 4145400 w 4357800"/>
              <a:gd name="textAreaTop" fmla="*/ 212400 h 6286680"/>
              <a:gd name="textAreaBottom" fmla="*/ 6074280 h 6286680"/>
            </a:gdLst>
            <a:ahLst/>
            <a:rect l="textAreaLeft" t="textAreaTop" r="textAreaRight" b="textAreaBottom"/>
            <a:pathLst>
              <a:path w="21600" h="31160">
                <a:moveTo>
                  <a:pt x="3600" y="0"/>
                </a:moveTo>
                <a:arcTo wR="3600" hR="3600" stAng="16200000" swAng="-5400000"/>
                <a:lnTo>
                  <a:pt x="0" y="27560"/>
                </a:lnTo>
                <a:arcTo wR="3600" hR="3600" stAng="10800000" swAng="-5400000"/>
                <a:lnTo>
                  <a:pt x="18000" y="3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2. Формы, способы, методы и средства реализации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кругленный прямоугольник 4"/>
          <p:cNvSpPr/>
          <p:nvPr/>
        </p:nvSpPr>
        <p:spPr>
          <a:xfrm>
            <a:off x="4668840" y="299880"/>
            <a:ext cx="4357800" cy="6286680"/>
          </a:xfrm>
          <a:custGeom>
            <a:avLst/>
            <a:gdLst>
              <a:gd name="textAreaLeft" fmla="*/ 212400 w 4357800"/>
              <a:gd name="textAreaRight" fmla="*/ 4145400 w 4357800"/>
              <a:gd name="textAreaTop" fmla="*/ 212400 h 6286680"/>
              <a:gd name="textAreaBottom" fmla="*/ 6074280 h 6286680"/>
            </a:gdLst>
            <a:ahLst/>
            <a:rect l="textAreaLeft" t="textAreaTop" r="textAreaRight" b="textAreaBottom"/>
            <a:pathLst>
              <a:path w="21600" h="31160">
                <a:moveTo>
                  <a:pt x="3600" y="0"/>
                </a:moveTo>
                <a:arcTo wR="3600" hR="3600" stAng="16200000" swAng="-5400000"/>
                <a:lnTo>
                  <a:pt x="0" y="27560"/>
                </a:lnTo>
                <a:arcTo wR="3600" hR="3600" stAng="10800000" swAng="-5400000"/>
                <a:lnTo>
                  <a:pt x="18000" y="3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984807"/>
            </a:solidFill>
            <a:miter/>
          </a:ln>
          <a:effectLst>
            <a:outerShdw dist="38160" dir="108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1) </a:t>
            </a:r>
            <a:r>
              <a:rPr b="0" lang="en-US" sz="2000" spc="-1" strike="noStrike" u="sng">
                <a:solidFill>
                  <a:srgbClr val="002060"/>
                </a:solidFill>
                <a:uFillTx/>
                <a:latin typeface="Calibri"/>
              </a:rPr>
              <a:t>Особенности образовательной деятельности </a:t>
            </a: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разных видов и культурных практик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2) Способы и направления </a:t>
            </a:r>
            <a:r>
              <a:rPr b="0" lang="en-US" sz="2000" spc="-1" strike="noStrike" u="sng">
                <a:solidFill>
                  <a:srgbClr val="002060"/>
                </a:solidFill>
                <a:uFillTx/>
                <a:latin typeface="Calibri"/>
              </a:rPr>
              <a:t>поддержки детской инициативы</a:t>
            </a: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3) Особенности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Calibri"/>
              </a:rPr>
              <a:t>взаимодействия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педагогического коллектива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Calibri"/>
              </a:rPr>
              <a:t>с семьями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воспитанников;</a:t>
            </a: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4) И</a:t>
            </a:r>
            <a:r>
              <a:rPr b="0" lang="en-US" sz="2000" spc="-1" strike="noStrike" u="sng">
                <a:solidFill>
                  <a:srgbClr val="002060"/>
                </a:solidFill>
                <a:uFillTx/>
                <a:latin typeface="Calibri"/>
              </a:rPr>
              <a:t>ные характеристики </a:t>
            </a: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содержания Программы, наиболее существенные с точки зрения авторов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Группа 12"/>
          <p:cNvGrpSpPr/>
          <p:nvPr/>
        </p:nvGrpSpPr>
        <p:grpSpPr>
          <a:xfrm>
            <a:off x="4164120" y="609480"/>
            <a:ext cx="838080" cy="598680"/>
            <a:chOff x="4164120" y="609480"/>
            <a:chExt cx="838080" cy="598680"/>
          </a:xfrm>
        </p:grpSpPr>
        <p:sp>
          <p:nvSpPr>
            <p:cNvPr id="241" name="Блок-схема: узел 10"/>
            <p:cNvSpPr/>
            <p:nvPr/>
          </p:nvSpPr>
          <p:spPr>
            <a:xfrm>
              <a:off x="4714560" y="800640"/>
              <a:ext cx="287640" cy="4075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Блок-схема: узел 11"/>
            <p:cNvSpPr/>
            <p:nvPr/>
          </p:nvSpPr>
          <p:spPr>
            <a:xfrm>
              <a:off x="4164120" y="783720"/>
              <a:ext cx="287640" cy="4075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Арка 9"/>
            <p:cNvGrpSpPr/>
            <p:nvPr/>
          </p:nvGrpSpPr>
          <p:grpSpPr>
            <a:xfrm>
              <a:off x="4182120" y="609480"/>
              <a:ext cx="803880" cy="577800"/>
              <a:chOff x="4182120" y="609480"/>
              <a:chExt cx="803880" cy="577800"/>
            </a:xfrm>
          </p:grpSpPr>
          <p:pic>
            <p:nvPicPr>
              <p:cNvPr id="244" name="Арка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182120" y="609480"/>
                <a:ext cx="803880" cy="57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"/>
              <p:cNvSpPr/>
              <p:nvPr/>
            </p:nvSpPr>
            <p:spPr>
              <a:xfrm>
                <a:off x="4234320" y="651960"/>
                <a:ext cx="699480" cy="42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6" name="Группа 13"/>
          <p:cNvGrpSpPr/>
          <p:nvPr/>
        </p:nvGrpSpPr>
        <p:grpSpPr>
          <a:xfrm>
            <a:off x="4143240" y="5572080"/>
            <a:ext cx="839880" cy="598680"/>
            <a:chOff x="4143240" y="5572080"/>
            <a:chExt cx="839880" cy="598680"/>
          </a:xfrm>
        </p:grpSpPr>
        <p:sp>
          <p:nvSpPr>
            <p:cNvPr id="247" name="Блок-схема: узел 14"/>
            <p:cNvSpPr/>
            <p:nvPr/>
          </p:nvSpPr>
          <p:spPr>
            <a:xfrm>
              <a:off x="4695120" y="5763960"/>
              <a:ext cx="288000" cy="40680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Блок-схема: узел 15"/>
            <p:cNvSpPr/>
            <p:nvPr/>
          </p:nvSpPr>
          <p:spPr>
            <a:xfrm>
              <a:off x="4143240" y="5747040"/>
              <a:ext cx="288000" cy="40680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Арка 16"/>
            <p:cNvGrpSpPr/>
            <p:nvPr/>
          </p:nvGrpSpPr>
          <p:grpSpPr>
            <a:xfrm>
              <a:off x="4157280" y="5572080"/>
              <a:ext cx="811440" cy="577080"/>
              <a:chOff x="4157280" y="5572080"/>
              <a:chExt cx="811440" cy="577080"/>
            </a:xfrm>
          </p:grpSpPr>
          <p:pic>
            <p:nvPicPr>
              <p:cNvPr id="250" name="Арка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4157280" y="5572080"/>
                <a:ext cx="811440" cy="57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4213440" y="5615640"/>
                <a:ext cx="7009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2" name="Группа 17"/>
          <p:cNvGrpSpPr/>
          <p:nvPr/>
        </p:nvGrpSpPr>
        <p:grpSpPr>
          <a:xfrm>
            <a:off x="4143240" y="3214800"/>
            <a:ext cx="839880" cy="598320"/>
            <a:chOff x="4143240" y="3214800"/>
            <a:chExt cx="839880" cy="598320"/>
          </a:xfrm>
        </p:grpSpPr>
        <p:sp>
          <p:nvSpPr>
            <p:cNvPr id="253" name="Блок-схема: узел 18"/>
            <p:cNvSpPr/>
            <p:nvPr/>
          </p:nvSpPr>
          <p:spPr>
            <a:xfrm>
              <a:off x="4695120" y="3408120"/>
              <a:ext cx="288000" cy="40500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Блок-схема: узел 19"/>
            <p:cNvSpPr/>
            <p:nvPr/>
          </p:nvSpPr>
          <p:spPr>
            <a:xfrm>
              <a:off x="4143240" y="3391560"/>
              <a:ext cx="288000" cy="40500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Арка 20"/>
            <p:cNvGrpSpPr/>
            <p:nvPr/>
          </p:nvGrpSpPr>
          <p:grpSpPr>
            <a:xfrm>
              <a:off x="4157280" y="3214800"/>
              <a:ext cx="811440" cy="574200"/>
              <a:chOff x="4157280" y="3214800"/>
              <a:chExt cx="811440" cy="574200"/>
            </a:xfrm>
          </p:grpSpPr>
          <p:pic>
            <p:nvPicPr>
              <p:cNvPr id="256" name="Арка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4157280" y="3214800"/>
                <a:ext cx="811440" cy="57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4213440" y="3260520"/>
                <a:ext cx="700920" cy="4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8" name="Группа 21"/>
          <p:cNvGrpSpPr/>
          <p:nvPr/>
        </p:nvGrpSpPr>
        <p:grpSpPr>
          <a:xfrm>
            <a:off x="4143240" y="2000160"/>
            <a:ext cx="839880" cy="598680"/>
            <a:chOff x="4143240" y="2000160"/>
            <a:chExt cx="839880" cy="598680"/>
          </a:xfrm>
        </p:grpSpPr>
        <p:sp>
          <p:nvSpPr>
            <p:cNvPr id="259" name="Блок-схема: узел 22"/>
            <p:cNvSpPr/>
            <p:nvPr/>
          </p:nvSpPr>
          <p:spPr>
            <a:xfrm>
              <a:off x="4695120" y="2192400"/>
              <a:ext cx="288000" cy="40644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Блок-схема: узел 23"/>
            <p:cNvSpPr/>
            <p:nvPr/>
          </p:nvSpPr>
          <p:spPr>
            <a:xfrm>
              <a:off x="4143240" y="2175480"/>
              <a:ext cx="288000" cy="40644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Арка 24"/>
            <p:cNvGrpSpPr/>
            <p:nvPr/>
          </p:nvGrpSpPr>
          <p:grpSpPr>
            <a:xfrm>
              <a:off x="4157280" y="2000160"/>
              <a:ext cx="811440" cy="576360"/>
              <a:chOff x="4157280" y="2000160"/>
              <a:chExt cx="811440" cy="576360"/>
            </a:xfrm>
          </p:grpSpPr>
          <p:pic>
            <p:nvPicPr>
              <p:cNvPr id="262" name="Арка 24" descr=""/>
              <p:cNvPicPr/>
              <p:nvPr/>
            </p:nvPicPr>
            <p:blipFill>
              <a:blip r:embed="rId4"/>
              <a:stretch/>
            </p:blipFill>
            <p:spPr>
              <a:xfrm>
                <a:off x="4157280" y="2000160"/>
                <a:ext cx="81144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>
                <a:off x="4213440" y="2044080"/>
                <a:ext cx="700920" cy="42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4" name="Группа 25"/>
          <p:cNvGrpSpPr/>
          <p:nvPr/>
        </p:nvGrpSpPr>
        <p:grpSpPr>
          <a:xfrm>
            <a:off x="4143240" y="4429080"/>
            <a:ext cx="839880" cy="598680"/>
            <a:chOff x="4143240" y="4429080"/>
            <a:chExt cx="839880" cy="598680"/>
          </a:xfrm>
        </p:grpSpPr>
        <p:sp>
          <p:nvSpPr>
            <p:cNvPr id="265" name="Блок-схема: узел 26"/>
            <p:cNvSpPr/>
            <p:nvPr/>
          </p:nvSpPr>
          <p:spPr>
            <a:xfrm>
              <a:off x="4695120" y="4623840"/>
              <a:ext cx="288000" cy="4039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Блок-схема: узел 27"/>
            <p:cNvSpPr/>
            <p:nvPr/>
          </p:nvSpPr>
          <p:spPr>
            <a:xfrm>
              <a:off x="4143240" y="4606920"/>
              <a:ext cx="288000" cy="4039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Арка 28"/>
            <p:cNvGrpSpPr/>
            <p:nvPr/>
          </p:nvGrpSpPr>
          <p:grpSpPr>
            <a:xfrm>
              <a:off x="4157280" y="4429080"/>
              <a:ext cx="811440" cy="581400"/>
              <a:chOff x="4157280" y="4429080"/>
              <a:chExt cx="811440" cy="581400"/>
            </a:xfrm>
          </p:grpSpPr>
          <p:pic>
            <p:nvPicPr>
              <p:cNvPr id="268" name="Арка 28" descr=""/>
              <p:cNvPicPr/>
              <p:nvPr/>
            </p:nvPicPr>
            <p:blipFill>
              <a:blip r:embed="rId5"/>
              <a:stretch/>
            </p:blipFill>
            <p:spPr>
              <a:xfrm>
                <a:off x="4157280" y="4429080"/>
                <a:ext cx="811440" cy="58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"/>
              <p:cNvSpPr/>
              <p:nvPr/>
            </p:nvSpPr>
            <p:spPr>
              <a:xfrm>
                <a:off x="4213440" y="4476600"/>
                <a:ext cx="70092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7T09:27:56Z</dcterms:created>
  <dc:creator>U01</dc:creator>
  <dc:description/>
  <dc:language>en-US</dc:language>
  <cp:lastModifiedBy>lector</cp:lastModifiedBy>
  <dcterms:modified xsi:type="dcterms:W3CDTF">2014-12-04T10:37:02Z</dcterms:modified>
  <cp:revision>20</cp:revision>
  <dc:subject/>
  <dc:title>Презентация PowerPoint</dc:title>
</cp:coreProperties>
</file>