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390-8EAD-468E-BF29-CF63BD3D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5BB-6242-4B8A-98EF-97DF3956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6EF11-ADD6-4EF0-9D88-DAEC0987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FD658-41B4-42D3-B0E2-4442466E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F6B0E-FB11-4C79-B286-22043033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3B87B-8123-41EE-99EE-9312F77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06BD8-1E15-4541-8A6C-F1FE5BA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421AF-A259-4FDA-9035-A422766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8304C-DAEF-4732-BBB0-B87D337A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E3A94-32C3-4B63-BEBC-D065930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FA9F8-9778-4165-9855-08515319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82E70-AA63-4E75-A664-29232841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013-2132-4A9E-94A5-5E39F71F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4A39B-FBA6-4CE2-8F22-C07EC64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18343-5CD8-41B0-934C-F0A57C9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A534B-4EA6-4097-AF46-4EBBB7BC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D166A-5C59-4A7A-8ACD-CA84A05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207DA-03C1-49E0-8ADE-E1F1B3D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9B2F4-7EE9-45B2-8AA7-2E0450C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FCB18-A67F-425E-A5FF-1E57064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7CB90-E60F-4143-9B68-E51E422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49690-2A50-4722-9D14-3D5BA4A6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ABEC4-6EDF-41CF-A502-48DD2125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9A6-A183-4F4F-AA09-7FB26487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F7787-FCD5-4D45-BDEC-6900396A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10C26-BFC9-4AB0-BA54-182D30B0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ABD1-F9D4-48A0-A92D-CA9C191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80090-2ABE-4917-8434-289FE47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85F84-00E2-44EE-B8DA-FCA1D28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74D1-9B9D-4315-81EA-556ADE9F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150C0-6C15-45A7-B456-D447CA3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4D3C5-4D1A-4FD1-9139-4D4E134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80BB4-A797-4175-904F-0F32CE6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9960-193B-48AE-B854-01661AA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1168-3EAB-4E0A-B205-F8462E6B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1FE76-ED1A-49FF-B12C-315498E4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DB40B-399F-49E2-9A9E-25FFD9DE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C5F8F-1F2D-4165-99D0-84227428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5D4A8-F802-4850-8993-23A83430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05E8A-D42B-4733-A930-6D76608C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F0F2D-8577-41E2-A182-6DEBC262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6E0F4-CBCD-4CC6-A7B9-0B97FF6C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8D363-7D72-4816-85C1-9F5D29B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E2D14-2480-4CEA-A04B-CDD99B1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7258D-8E51-4CB5-902A-83664F7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B94-5BEA-43D3-99B0-505CFE6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A6DF7-D1AA-4D1D-AE98-17AB7C3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7BBD6-6373-4329-B1EC-F659200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3E4DD-9BAA-4CDB-B67F-73B87FD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058D5-8686-4BDD-A26C-4236D557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06D0D-2BBD-40B8-ADA6-120C19C3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103-D049-417E-8A6E-3B1FDB6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835F-3AA2-4A14-8CA2-7E30824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18B4-5D10-404B-AEF4-A2825820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C65B-BAE8-4841-95B6-B6F9716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D73-983F-4834-B4C9-F88EF15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9AF-C096-4190-AA50-8068410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9D38-E46B-49A3-B7BC-DCE7219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45C6-95B7-457E-B36D-B38646E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1B46-2E3D-4E36-8066-DCDABCCB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27A4-80E9-4C7D-A565-262DD6B3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29AD-BBF7-49AB-B126-8AFB6786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E137-A762-4C11-B15C-0AB19221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B6B1-0AC1-4C9C-B4F2-B037FBC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2CBC-9497-40F4-92E0-BAB45FA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7462-8208-4878-B706-7F1C6BE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90C4-0889-4DC6-8736-80130AE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117-F3BB-4B68-8499-61BCE54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B198-3E6C-4840-AD81-E30B2F1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32CD-9EE1-4017-9E10-0620FA3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9B07-F387-4719-AD06-C650B98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0280-4BC4-42D8-B725-38A0D9F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3B29-9541-49D6-97E8-2A438D9A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7D52-F467-401C-90FF-6AE4F5B2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4E18-CF51-450C-A005-C13D30B2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4146-31A2-4A8C-8896-A6265379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811A-7C94-4445-BD7F-C4C9249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11C5-E648-42F4-86EE-4D5F6D9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D19-8668-4ACA-BBEF-B805F387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0C434-B6CF-4E8B-962E-75145A2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9910-D98E-4DF8-BEF5-9FB4758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0358-3C5A-4E02-9B08-F91B88B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FD12-3C31-4612-BA71-35145E0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0C5F-F2C1-4682-9B57-1AC392C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8365-6FBA-4C42-A6D3-E021EFF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F34B-9E3C-4E9A-91CE-E6D2394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DEFE-6EF4-4BFE-83F7-48FB025B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4426-94B8-4B1A-A891-138FFDBC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5F1B-F658-4CF6-9CB9-FBBFCF35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C12-98BF-4483-8CA5-7EE4A26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66ED-E48F-42D7-8405-3269001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9F97-DC2C-404B-A04F-ECF861F8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C374-0357-463B-A14E-3B924E96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1F7C-2B21-4DC4-9B3B-E286FA9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F705-A0AC-4F12-912A-C14025A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2E65-8200-4961-9C7A-7D19399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5ED8-78AF-4A4A-8DAD-04B67A5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B843-DC97-4FE9-BEAF-C74679D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9B66-D842-40BD-A7F2-F410B4E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A4E9-8D89-4E94-AF08-047D25F4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716-758E-418B-9654-FC04960F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160A-D9DC-410E-BBC5-B536830E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870D-3DA8-4F58-808D-6475C5C8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E9F0-4A75-4068-9AEB-2F56C401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1333-054A-4D42-BDBF-8AB823B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C1D12-06EB-496D-85D5-734331F2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4E96-E15E-4B65-B6CC-0CAF878E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D42A-F0BF-48F1-91AC-5E7AEEA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D954-FB05-4FD9-8A00-0AB5CA2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56AA-2142-4428-81ED-9644B35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881E7-2CD1-4BD8-9ECE-20F1EB8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F5B-5926-48F6-9E13-8343716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6DA2-9E11-4D10-943C-8E67E26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6BD1-D3E1-48EC-8C62-9B7CF28E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2BD8-02BD-4A47-9A25-79022406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8BF3-DFC4-4789-8265-98888EB3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46A9-D036-4159-BA24-952B7BF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1D1D-0622-4D41-99A8-1FE645A6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7CC1-2AE6-4E48-A98A-BF66A23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7D17-074C-4BDD-9C94-0E3ACB6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E81F-089E-4ACF-B4C1-0B6A56C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32CA-F8AB-403A-BE71-B1D031C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917-3DF7-4B00-AE46-2E4D399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B7C1-4EA9-4E81-AC3D-0BC6541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1DB0-DEB2-4183-841D-C88F681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45DC-804B-44F4-A0F2-ABBE21D8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C335-2936-4541-8DCC-8F187E1D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04EC-8770-4CE7-B162-E0059C06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5E71D-48A0-42AD-92EE-6D201049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1972-6B9A-4AA0-B258-FCA249FA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80DD-CA50-489C-86BD-05422B9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AE71-BF69-47AA-8682-BD76AE6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23423-A97B-4D42-9CE6-63D5C218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BC7-2F02-44F7-AECA-857DF85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9BAA-8D11-4957-8B2A-311FA9DE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1D55-C64A-44EC-8770-595D2FF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505E-2CC4-4096-A824-2F6D341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DBAA-4941-44DE-ADA2-60EA712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3D46-A843-45A7-9157-82B0D4F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7621-DA54-4E3F-B8E3-AD3C89FF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2D0A2-064A-47F2-9D25-1077B731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ED557-3684-414C-9A7D-1BC54D9D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50116-06DC-452B-9757-D9766A72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62928-5412-4ECE-BA64-032DF41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3AA-4558-4AED-A6E8-283B9C64D3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F0F-32C4-4710-877F-D133D66188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19C-2346-4355-8F1C-E3DF9BF284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3E31-3DE1-411E-8BAD-BE13092C18C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E8A9-E73D-413C-A7D8-686FC759E0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EE72-FBAC-4F26-B058-533BCE70E4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BE7-B97A-4C9C-BD0F-A82822060EE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4D7F-C9D2-4518-8C65-9C4B4729105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059A-5BD1-4FDF-9340-A78945C49B9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30C-FBC8-43BC-9EA7-3CF2454842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AF87-53CE-417C-ADBA-E5C61EC2C1B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B65-C63C-486B-A3E1-61BF32DCCA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ppdrao.ru/" TargetMode="External"/><Relationship Id="rId2" Type="http://schemas.openxmlformats.org/officeDocument/2006/relationships/hyperlink" Target="mailto:ippdrao@yandex.ru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79280" y="270792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ПРОЕКТИРОВАНИЕ ПРЕДМЕТНО-ПРОСТРАНСТВЕННОЙ РАЗВИВАЮЩЕЙ ОБРАЗОВАТЕЛЬНОЙ СРЕДЫ В ДОШКОЛЬНОЙ ОБРАЗОВАТЕЛЬНОЙ ОРГАНИЗАЦИИ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i="1" lang="ru-RU" sz="34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400"/>
            </a:br>
            <a:r>
              <a:rPr b="1" lang="ru-RU" sz="1800" spc="-1" strike="noStrike">
                <a:solidFill>
                  <a:srgbClr val="d16349"/>
                </a:solidFill>
                <a:latin typeface="Georgia"/>
              </a:rPr>
              <a:t>СЕМИНАР</a:t>
            </a:r>
            <a:r>
              <a:rPr b="1" i="1" lang="ru-RU" sz="34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400"/>
            </a:br>
            <a:r>
              <a:rPr b="1" lang="ru-RU" sz="1800" spc="-1" strike="noStrike">
                <a:solidFill>
                  <a:srgbClr val="d16349"/>
                </a:solidFill>
                <a:latin typeface="Georgia"/>
              </a:rPr>
              <a:t>Введение Федерального государственного образовательного стандарта дошкольного образования</a:t>
            </a:r>
            <a:br>
              <a:rPr sz="1300"/>
            </a:br>
            <a:br>
              <a:rPr sz="1300"/>
            </a:br>
            <a:r>
              <a:rPr b="0" lang="ru-RU" sz="1800" spc="-1" strike="noStrike">
                <a:solidFill>
                  <a:srgbClr val="d16349"/>
                </a:solidFill>
                <a:latin typeface="Georgia"/>
              </a:rPr>
              <a:t>г. Пермь, 5 декабря 2014 г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ОЛИФУНКЦИОНАЛЬНОСТЬ МАТЕРИАЛ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) Полифункциональность материалов предполагает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зможность разнообразного использования различных составляющих предметной сред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апример, детской мебели, матов, мягких модулей, ширм и т.д.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алич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лифункциональн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 обладающих жестко закрепленным способом употребления)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в том числе природных материалов, пригодных для использования в разных видах детской активности (в том числе в качестве предметов-заместителей в детской игр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АРИАТИВНОСТЬ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 Вариативность среды предполагает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наличие различных пространст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ериодическую сменяемость игрового материал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ДОСТУПНОСТЬ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 Доступность среды предполагает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доступность для воспитанников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в том числе детей с ограниченными возможностями здоровья и детей-инвалидов, всех помещений, где осуществляется образовательная деятель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вободный доступ дете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в том числе детей с ограниченными возможностями здоровья, к играм, игрушкам, материалам, пособиям, обеспечивающим все основные виды детской активн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исправность и сохраннос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териалов и оборуд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БЕЗОПАСНОСТЬ ПРЕДМЕТНО-ПРОСТРАНСТВЕННОЙ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 Безопасность предметно-пространственной среды предполагает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оответствие всех ее элементов требованиям по обеспечению надежности и безопасности их использовани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ПОСОБ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роткова Н.А., Глушкова Г.В., Мусиенко С.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едметно-пространственная среда детского сада: старший дошкольный возраст: пособие для воспитателей / Под редакцией Коротковой Н.А. – М.: ЛИНКА-Пресс, 2010. – 96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особии представлена концепция проектирования предметно-пространственной среды для детей старшего дошкольного возраста в дошкольных учреждениях; предложены конкретные варианты устройства групповых помещений в детских садах разного типа (со спальнями и без спален); варианты организации среды подкреплены иллюстративным материал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воспитателей детских садов, для педагогов, работающих с детьми старшего дошкольного возраста в рамках других образовательных и культурно-досуговых учрежд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ПОСОБ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атериалы и оборудование для детского сада: пособие для воспитателей и заведующих / Под редакцией Дороновой Т.Н. Коротковой Н.А. – М.: ЛИНКА-Пресс, 2011. – 96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заведующих и воспитателей детских садов, для педагогов, работающих с детьми старшего дошкольного возраста в рамках других образовательных и культурно-досуговых учрежд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СПАСИБО ЗА ВНИМАНИЕ!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СПЕХОВ В РАБОТЕ!!!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287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ippdrao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Электронная почт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ippdrao@yandex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Телефон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8-499-246-83-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2" descr="http://img-fotki.yandex.ru/get/5608/funtry.44/0_5c3bd_5cf090f2_XXL.jpeg"/>
          <p:cNvPicPr/>
          <p:nvPr/>
        </p:nvPicPr>
        <p:blipFill>
          <a:blip r:embed="rId3"/>
          <a:srcRect l="0" t="6901" r="0" b="6901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лноценное проживани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ёнком всех этапов детств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гащение  (амплификация)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етского развит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) построение образовательной деятельности на основе индивидуальных особенностей каждого ребенка, при котором сам ребенок становится активны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выборе содержания своего образования, становится субъектом образования (далее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индивидуализаци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ошкольного образования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ДЕЙСТВИЕ И СОТРУДНИЧЕСТВО ДЕТЕЙ И ВЗРОСЛЫХ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, признание ребенка полноценным участником (субъектом) образовательных отношени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ДДЕРЖКА ИНИЦИАТИВЫ ДЕТЕ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) сотрудничество Организации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 семьёй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) приобщение детей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циокультурным нормам, традициям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семьи, общества и государст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) формирова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ЫХ ИНТЕРЕСОВ И ПОЗНАВАТЕЛЬНЫХ ДЕЙСТВИ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енка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озрастная адекватно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ошкольного образования (соответствия условий, требований, методов возрасту  и особенностям развития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)учё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этнокультурной ситуаци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звития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обеспечивает максимальную реализацию образовательного потенциала пространства Организации, Группы, а также территории, прилегающей к Организации или находящейся на небольшом удалении, приспособленной для реализации Программы (далее – участок),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 возможность общения и совместной деятельности детей (в том числе детей разного возраста) и взрослых, двигательной активности детей, а также возможности для уеди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ализацию различных образовательных програм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лучае организации инклюзивного образования – необходимые для него условия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национально-культурных, климатических условий, в которых осуществляется образовательная деятель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возрастных особенностей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лжна бы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ДЕРЖАТЕЛЬНО-НАСЫЩЕН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РАНСФОРМИРУЕМ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ОЛИФУНКЦИОНАЛЬ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АРИАТИВ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ДОСТУП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ЕЗОПАСНО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СЫЩЕННОСТЬ СРЕД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 Насыщенность среды должна соответствовать возрастным возможностям детей и содержанию Программ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 … в соответствии со спецификой Программ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РАНСФОРМИРУЕМОСТЬ ПРОСТРАНСТВ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 Трансформируемость пространства 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21:04:11Z</dcterms:created>
  <dc:creator>KIL</dc:creator>
  <dc:description/>
  <dc:language>en-US</dc:language>
  <cp:lastModifiedBy>Иван Кириллов</cp:lastModifiedBy>
  <dcterms:modified xsi:type="dcterms:W3CDTF">2014-12-05T04:16:42Z</dcterms:modified>
  <cp:revision>28</cp:revision>
  <dc:subject/>
  <dc:title>ВСЕРОССИЙСКАЯ КОНФЕРЕНЦИЯ  ПО ОБСУЖДЕНИЮ МОДЕЛЕЙ ОРГАНИЗАЦИИ ДОШКОЛЬНОГО ОБРАЗОВАНИЯ, МЕХАНИЗМОВ ВНЕДРЕНИЯ ФГОС ДОШКОЛЬНОГО ОБРАЗОВАНИЯ  г. Москва, 31 октября – 2 ноября 2013 г.</dc:title>
</cp:coreProperties>
</file>