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5.png" ContentType="image/png"/>
  <Override PartName="/ppt/media/image30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14.png" ContentType="image/png"/>
  <Override PartName="/ppt/media/image9.wmf" ContentType="image/x-wmf"/>
  <Override PartName="/ppt/media/image1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4EE7-1F32-40CE-85A3-142C63974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развивающая предметно-пространственная среда детского сада состоит из следующих компонен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8A84-79A2-4140-B24E-9B4B40AA59B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688-30B8-4F7A-86D5-5DB6F830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3DF-3DD4-4842-BB00-3C11AFF4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5E6-EFB7-4367-AE6A-961394E8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7FF-A7D5-4225-8409-E45B252A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2234-88B8-4488-AA37-4AD636F2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E89B-3F69-4192-B6AB-3F65351B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7AC9-86B9-452D-9E3E-30533008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E5F9-BDEB-48D6-9401-34A27A63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9455-9F3A-42D4-B3E9-292D62AC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B988-52A8-47AB-87D2-CCAC5B1B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3468-D58A-45EE-B6F0-DAE26581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F94-E328-4E3F-8AB1-88430AB4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A457-FD27-40AC-BE8E-B43A0138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E40C-63F6-4019-A3FD-59BF574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AA91-D139-4788-8581-BED3CCB3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ECFD-2174-4C28-B6BF-EB566957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10AA-F33A-4E04-AEE6-7D6EA994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012C7-3A5D-4553-82E3-55EED0F4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D2706-0741-4F8A-987E-2418AF28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C92B-AC64-4C79-9174-3D7E9766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DBCE2-1B10-4861-8B1B-8856516C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6D37-980E-40CA-BD61-A6D0066F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44E-668A-4005-AC01-0AD77D6B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DB13-24F9-47A6-A117-BE304416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E57C-DF75-41CF-AF4C-D9A8346E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5A0C-CE59-4ADE-BD02-AFB210D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F634-F27C-4292-BD3C-3C8EE10A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28370-0AF0-405E-B180-2FD92D6B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1EAB8-1CE9-4764-AA71-64F2A539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739CF-FEE1-4F2F-9C3C-6B4CCFF5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93E-3147-44E2-AA39-262DC2FB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807-A95E-42C8-9D75-F59C4AC1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104-3A1E-4855-9DC6-3CB3ABD9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046-E153-48BA-B161-CE56618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AB1-BAFD-4220-A780-1F3E9921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BB3-53D6-46A3-B8C1-E0BE3875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8279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8279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8279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232C-B250-44C0-BE0B-A99173D67D58}" type="slidenum">
              <a:rPr b="0" lang="en-US" sz="1200" spc="-1" strike="noStrike">
                <a:solidFill>
                  <a:srgbClr val="578279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8279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8279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8279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D5B7-E806-4761-A7FE-FF011A063762}" type="slidenum">
              <a:rPr b="0" lang="en-US" sz="1200" spc="-1" strike="noStrike">
                <a:solidFill>
                  <a:srgbClr val="578279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575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3a575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827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AAB2-306C-4824-8A51-102336D7C5A8}" type="slidenum">
              <a:rPr b="0" lang="ru-RU" sz="1200" spc="-1" strike="noStrike">
                <a:solidFill>
                  <a:srgbClr val="57827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mdk-arbat.ru/fotos/a1021.jpg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229600" cy="1170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j0281904"/>
          <p:cNvPicPr/>
          <p:nvPr/>
        </p:nvPicPr>
        <p:blipFill>
          <a:blip r:embed="rId2"/>
          <a:stretch/>
        </p:blipFill>
        <p:spPr>
          <a:xfrm>
            <a:off x="3659040" y="2565360"/>
            <a:ext cx="1825920" cy="1725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j0284916"/>
          <p:cNvPicPr/>
          <p:nvPr/>
        </p:nvPicPr>
        <p:blipFill>
          <a:blip r:embed="rId3"/>
          <a:stretch/>
        </p:blipFill>
        <p:spPr>
          <a:xfrm>
            <a:off x="539640" y="1628640"/>
            <a:ext cx="820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609480" y="4797360"/>
            <a:ext cx="8229600" cy="1279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Рисунок1"/>
          <p:cNvPicPr/>
          <p:nvPr/>
        </p:nvPicPr>
        <p:blipFill>
          <a:blip r:embed="rId2"/>
          <a:stretch/>
        </p:blipFill>
        <p:spPr>
          <a:xfrm>
            <a:off x="900000" y="765000"/>
            <a:ext cx="7488360" cy="42530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468360" y="-45864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СРЕД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Рисунок3"/>
          <p:cNvPicPr/>
          <p:nvPr/>
        </p:nvPicPr>
        <p:blipFill>
          <a:blip r:embed="rId2"/>
          <a:stretch/>
        </p:blipFill>
        <p:spPr>
          <a:xfrm>
            <a:off x="1042920" y="2276640"/>
            <a:ext cx="2951280" cy="4322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Рисунок4"/>
          <p:cNvPicPr/>
          <p:nvPr/>
        </p:nvPicPr>
        <p:blipFill>
          <a:blip r:embed="rId3"/>
          <a:stretch/>
        </p:blipFill>
        <p:spPr>
          <a:xfrm>
            <a:off x="5003640" y="2276640"/>
            <a:ext cx="3213360" cy="43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реда – понятие древнего происхождения – пришло к нам из глубины веков.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20760" indent="-32076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 время существования это понятие обросло различными историческими смыслами и культурными значениями.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20760" indent="-32076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лючевым термином подхода является: среда в значении потенциального средства воспитания, отражающего ее педагогическую сущность.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20760" indent="-320760"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Обычно среда описывается как компонент, элемент, фактор, ингредиент, условие, место, стимул, агент, объект, раздражитель и др.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анная трактовка среды более приемлема к подходу, при котором ей придается значение средства, а не только условия воспитания, и где большую роль играет она сама, а не взаимодействующий с ней субъект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41280" indent="-341280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редовый подход  это подход со стороны среды, которая выступает детерминантом выбора субъектом способов взаимодействия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41280" indent="-341280"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овой подход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то подход субъекта управления к среде, от нее, вместе с ней к личности.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овой подход 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это система действий субъекта управления со средой, направленных на превращение ее в средство диагностики, проектирования и продуцирования педагогического результа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Образовательная среда – совокупность условий, целенаправленно создаваемых в целях обеспечения полноценного образования и развития детей. 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9600" cy="1255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разовательная среда, как условие определяется теми конкретными задачами, которые образовательное учреждение ставить и решает в своей деятельности, проявляется в выборе средств с помощью которых эти задачи решают (учебные программы, тип взаимодействия педагога с детьми, качество оценок, стиль отношений, организация внутренней жизни учреждения, материально-техническое оснащение, оформление помещений и т.п.)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дает следующее определение: </a:t>
            </a:r>
            <a:r>
              <a:rPr b="1" i="1" lang="ru-RU" sz="3200" spc="-1" strike="noStrike">
                <a:solidFill>
                  <a:srgbClr val="262626"/>
                </a:solidFill>
                <a:latin typeface="Times New Roman"/>
              </a:rPr>
              <a:t>предметно-развивающая среда – система материальных объектов деятельности ребенка, функционально-моделирующая содержание развития его духовного и физического облика.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62626"/>
                </a:solidFill>
                <a:latin typeface="Times New Roman"/>
              </a:rPr>
              <a:t>При построении предметно-развивающей среды следует опираться на концептуальные положения </a:t>
            </a:r>
            <a:endParaRPr b="0" lang="en-US" sz="27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62626"/>
                </a:solidFill>
                <a:latin typeface="Times New Roman"/>
              </a:rPr>
              <a:t>Эффективность образовательного процесса зависит от того, насколько конкретная педагогическая работа ориентирована 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</a:rPr>
              <a:t>на формирование новообразований</a:t>
            </a:r>
            <a:r>
              <a:rPr b="0" lang="ru-RU" sz="27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en-US" sz="27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262626"/>
                </a:solidFill>
                <a:uFillTx/>
                <a:latin typeface="Times New Roman"/>
              </a:rPr>
              <a:t>Младший дошкольный возраст</a:t>
            </a:r>
            <a:r>
              <a:rPr b="0" lang="ru-RU" sz="2700" spc="-1" strike="noStrike">
                <a:solidFill>
                  <a:srgbClr val="262626"/>
                </a:solidFill>
                <a:latin typeface="Times New Roman"/>
              </a:rPr>
              <a:t>: целеполагание, целенаправленность детской деятельности;</a:t>
            </a:r>
            <a:endParaRPr b="0" lang="en-US" sz="27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262626"/>
                </a:solidFill>
                <a:uFillTx/>
                <a:latin typeface="Times New Roman"/>
              </a:rPr>
              <a:t>Средний дошкольный возраста</a:t>
            </a:r>
            <a:r>
              <a:rPr b="0" lang="ru-RU" sz="2700" spc="-1" strike="noStrike">
                <a:solidFill>
                  <a:srgbClr val="262626"/>
                </a:solidFill>
                <a:latin typeface="Times New Roman"/>
              </a:rPr>
              <a:t>: выходы за пределы действительности и интерес к знаковой системе;</a:t>
            </a:r>
            <a:endParaRPr b="0" lang="en-US" sz="27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262626"/>
                </a:solidFill>
                <a:uFillTx/>
                <a:latin typeface="Times New Roman"/>
              </a:rPr>
              <a:t>Старший дошкольный возраст</a:t>
            </a:r>
            <a:r>
              <a:rPr b="0" lang="ru-RU" sz="2700" spc="-1" strike="noStrike">
                <a:solidFill>
                  <a:srgbClr val="262626"/>
                </a:solidFill>
                <a:latin typeface="Times New Roman"/>
              </a:rPr>
              <a:t>: произвольность психических процессов.</a:t>
            </a:r>
            <a:endParaRPr b="0" lang="en-US" sz="27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едметно-развивающая среда при реализации ООП должна:</a:t>
            </a:r>
            <a:endParaRPr b="0" lang="en-US" sz="3000" spc="-1" strike="noStrike">
              <a:solidFill>
                <a:srgbClr val="262626"/>
              </a:solidFill>
              <a:latin typeface="Book Antiqua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обеспечивать максимальную реализацию образовательного потенциала пространства и материалов, оборудования и инвентаря для развития детей дошкольного возраста;</a:t>
            </a:r>
            <a:endParaRPr b="0" lang="en-US" sz="3000" spc="-1" strike="noStrike">
              <a:solidFill>
                <a:srgbClr val="262626"/>
              </a:solidFill>
              <a:latin typeface="Book Antiqua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- обеспечивать возможность общения взрослых с детьми и детьми друг с другом, двигательной активности, а также возможности для уединения.</a:t>
            </a:r>
            <a:endParaRPr b="0" lang="en-US" sz="3000" spc="-1" strike="noStrike">
              <a:solidFill>
                <a:srgbClr val="262626"/>
              </a:solidFill>
              <a:latin typeface="Book Antiqua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Заголовок 1" descr=""/>
          <p:cNvPicPr/>
          <p:nvPr/>
        </p:nvPicPr>
        <p:blipFill>
          <a:blip r:embed="rId1"/>
          <a:stretch/>
        </p:blipFill>
        <p:spPr>
          <a:xfrm>
            <a:off x="176040" y="712800"/>
            <a:ext cx="8718840" cy="19382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92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Любимова Л.В.,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к.п.н., доцент,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специалист педагогического факультета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Регионального института развития образования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Пермского государственного национального исследовательского университета;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методист УМЦ Изд-ва «БАЛАСС» </a:t>
            </a: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6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- взаимодействие участников педагогического процесса;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- предметная среда;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- освоение содержания дошкольного образования.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62626"/>
                </a:solidFill>
                <a:latin typeface="Times New Roman"/>
              </a:rPr>
              <a:t>Это означает, что система предметной среды должна учитывать </a:t>
            </a:r>
            <a:r>
              <a:rPr b="0" i="1" lang="ru-RU" sz="3200" spc="-1" strike="noStrike" u="sng">
                <a:solidFill>
                  <a:srgbClr val="262626"/>
                </a:solidFill>
                <a:uFillTx/>
                <a:latin typeface="Times New Roman"/>
              </a:rPr>
              <a:t>возрастные интересы</a:t>
            </a:r>
            <a:r>
              <a:rPr b="0" i="1" lang="ru-RU" sz="3200" spc="-1" strike="noStrike">
                <a:solidFill>
                  <a:srgbClr val="262626"/>
                </a:solidFill>
                <a:latin typeface="Times New Roman"/>
              </a:rPr>
              <a:t> развития детской деятельности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егодня в ДОУ будет создана принципиально новая микро- и макро- среда: 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 учетом организации образовательного процесса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 учетом времени пребывания детей в ДОУ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626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ответствие пространства группового помещения соотношению 50-20-30%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(лат. complexus - связь, сочетание, совокупность, система)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под комплексным подходом можно представить образовательную среду, которая включает в себя дидактический,  предметно- пространственный, социальный компоненты. 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Современные подходы  к организации образовательной среды  предполагают взаимодействие всех участников образовательного процесса — педагогов, детей, родителей и социума,  что способствует повышению  качества обучения и воспитания детей дошкольного возраста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Использование обозначенных подходов в проектировании  развивающей образовательной среды предполагает опору на личностно-ориентированную модель взаимодействия между взрослыми и детьми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В основе проектирования образовательной среды  дошкольных  учреждений  с субъектами образовательного процесса лежат принципы  сотрудничества и партнерства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260280" y="1208160"/>
            <a:ext cx="2378160" cy="1800000"/>
          </a:xfrm>
          <a:prstGeom prst="rect">
            <a:avLst/>
          </a:prstGeom>
          <a:solidFill>
            <a:srgbClr val="e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ДАГОГ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14800" y="1285920"/>
            <a:ext cx="5554440" cy="1438200"/>
          </a:xfrm>
          <a:custGeom>
            <a:avLst/>
            <a:gdLst>
              <a:gd name="textAreaLeft" fmla="*/ 0 w 5554440"/>
              <a:gd name="textAreaRight" fmla="*/ 5554800 w 5554440"/>
              <a:gd name="textAreaTop" fmla="*/ 186480 h 1438200"/>
              <a:gd name="textAreaBottom" fmla="*/ 1252080 h 1438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2. Подготовка педагогов к непрерывном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…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развитию старших дошкольников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младших школьников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14800" y="2786040"/>
            <a:ext cx="5657760" cy="1428840"/>
          </a:xfrm>
          <a:custGeom>
            <a:avLst/>
            <a:gdLst>
              <a:gd name="textAreaLeft" fmla="*/ 0 w 5657760"/>
              <a:gd name="textAreaRight" fmla="*/ 5657760 w 5657760"/>
              <a:gd name="textAreaTop" fmla="*/ 185040 h 1428840"/>
              <a:gd name="textAreaBottom" fmla="*/ 12438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ea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Организация развивающей образовательной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ы  с учётом национально-региональных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иных особенностей как условие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ализации ФГОС и ФГТ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2857680" y="5500800"/>
            <a:ext cx="6072120" cy="1079280"/>
          </a:xfrm>
          <a:custGeom>
            <a:avLst/>
            <a:gdLst>
              <a:gd name="textAreaLeft" fmla="*/ 0 w 6072120"/>
              <a:gd name="textAreaRight" fmla="*/ 6072480 w 6072120"/>
              <a:gd name="textAreaTop" fmla="*/ 139680 h 1079280"/>
              <a:gd name="textAreaBottom" fmla="*/ 939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Педагогическое диагностирование старших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школьников и младших  школь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0" y="3284640"/>
            <a:ext cx="2916360" cy="3168720"/>
          </a:xfrm>
          <a:custGeom>
            <a:avLst/>
            <a:gdLst>
              <a:gd name="textAreaLeft" fmla="*/ 299160 w 2916360"/>
              <a:gd name="textAreaRight" fmla="*/ 3215880 w 2916360"/>
              <a:gd name="textAreaTop" fmla="*/ 410760 h 3168720"/>
              <a:gd name="textAreaBottom" fmla="*/ 2757960 h 3168720"/>
            </a:gdLst>
            <a:ahLst/>
            <a:rect l="textAreaLeft" t="textAreaTop" r="textAreaRight" b="textAreaBottom"/>
            <a:pathLst>
              <a:path w="21600" h="21600">
                <a:moveTo>
                  <a:pt x="2218" y="1400"/>
                </a:moveTo>
                <a:cubicBezTo>
                  <a:pt x="4709" y="-3560"/>
                  <a:pt x="9418" y="6360"/>
                  <a:pt x="11909" y="1400"/>
                </a:cubicBezTo>
                <a:cubicBezTo>
                  <a:pt x="14400" y="-3560"/>
                  <a:pt x="19109" y="6360"/>
                  <a:pt x="21600" y="1400"/>
                </a:cubicBezTo>
                <a:lnTo>
                  <a:pt x="19382" y="20200"/>
                </a:lnTo>
                <a:cubicBezTo>
                  <a:pt x="16891" y="25160"/>
                  <a:pt x="12182" y="15240"/>
                  <a:pt x="9691" y="20200"/>
                </a:cubicBezTo>
                <a:cubicBezTo>
                  <a:pt x="7200" y="25160"/>
                  <a:pt x="2491" y="15240"/>
                  <a:pt x="0" y="20200"/>
                </a:cubicBezTo>
                <a:close/>
              </a:path>
            </a:pathLst>
          </a:custGeom>
          <a:solidFill>
            <a:srgbClr val="f1db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Преемственность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процессе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ния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гративных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честв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школьников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УУД  младших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кольн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2611440" y="14050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2643120" y="1428840"/>
            <a:ext cx="500040" cy="19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351160" y="2971800"/>
            <a:ext cx="720720" cy="16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286000" y="3036960"/>
            <a:ext cx="500040" cy="29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AutoShape 13"/>
          <p:cNvSpPr/>
          <p:nvPr/>
        </p:nvSpPr>
        <p:spPr>
          <a:xfrm>
            <a:off x="3071880" y="4286160"/>
            <a:ext cx="5813280" cy="1149480"/>
          </a:xfrm>
          <a:custGeom>
            <a:avLst/>
            <a:gdLst>
              <a:gd name="textAreaLeft" fmla="*/ 0 w 5813280"/>
              <a:gd name="textAreaRight" fmla="*/ 5813640 w 5813280"/>
              <a:gd name="textAreaTop" fmla="*/ 149040 h 1149480"/>
              <a:gd name="textAreaBottom" fmla="*/ 1000440 h 1149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ути и способы взаимодействия педагогов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и родителей воспитанников на дошкольной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и начальной ступенях образования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1306440" y="2971800"/>
            <a:ext cx="91440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B519-A249-411F-B567-9832D308E0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0" y="1341360"/>
            <a:ext cx="9144000" cy="417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90" name="Rectangle 4" descr=""/>
          <p:cNvPicPr/>
          <p:nvPr/>
        </p:nvPicPr>
        <p:blipFill>
          <a:blip r:embed="rId1"/>
          <a:stretch/>
        </p:blipFill>
        <p:spPr>
          <a:xfrm>
            <a:off x="396720" y="1566720"/>
            <a:ext cx="4967280" cy="4194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Картинка 2 из 4783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125360"/>
            <a:ext cx="35053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738360" y="1700280"/>
            <a:ext cx="7724520" cy="2695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8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зменения,  происходящие  в России и мире, привели к тому, что общество перешло от относительно стабильной фазы истории к динамической фазе развития.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суще этому переходу социальная, духовная и экономическая дифференциация общества, по мнению Александра Григорьевича Асмолова, стали предпосылкой поиска мирного сосуществования государственного, негосударственного, семейного образования, а тем самым – неизбежной трансформации всей системы в целом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04840" y="1327320"/>
            <a:ext cx="8785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ФГОС ДО  задает нижнюю допустимую границу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создания условий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для осуществления образовательного процесса и результатов освоения основной общеобразовательной программы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204840" y="33480"/>
            <a:ext cx="8785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alibri"/>
              </a:rPr>
              <a:t>Что является отличительной особенностью ФГОС ДО?</a:t>
            </a:r>
            <a:endParaRPr b="0" lang="en-US" sz="3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0560" y="1341360"/>
            <a:ext cx="8661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ребования к условиям реализации Программы включают требования к: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00240" indent="-300240">
              <a:lnSpc>
                <a:spcPct val="100000"/>
              </a:lnSpc>
              <a:buClr>
                <a:srgbClr val="2626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сихолого-педагогическим,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00240" indent="-300240">
              <a:lnSpc>
                <a:spcPct val="100000"/>
              </a:lnSpc>
              <a:buClr>
                <a:srgbClr val="2626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кадровым,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00240" indent="-300240">
              <a:lnSpc>
                <a:spcPct val="100000"/>
              </a:lnSpc>
              <a:buClr>
                <a:srgbClr val="2626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атериально-техническим и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00240" indent="-300240">
              <a:lnSpc>
                <a:spcPct val="100000"/>
              </a:lnSpc>
              <a:buClr>
                <a:srgbClr val="2626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инансовым условиям реализации Программы, а также к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00240" indent="-300240">
              <a:lnSpc>
                <a:spcPct val="100000"/>
              </a:lnSpc>
              <a:buClr>
                <a:srgbClr val="2626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ивающей предметно-пространственной среде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00240" indent="-30024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словия реализации Программы должны обеспечивать полноценное развитие личности детей во всех основных образовательных областях, а именно: в сферах социально‑коммуникативного, познавательного, речевого, художественно-эстетического и физического развития личности детей на фоне их эмоционального благополучия и положительного отношения к миру, к себе и к другим людям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00240" indent="-300240"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здание социальной ситуации развития для участников образовательных отношений, включая создание образовательной среды, которая: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арантирует охрану и укрепление физического и психического здоровья воспитанников;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еспечивает эмоциональное благополучие воспитанников;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пособствует профессиональному развитию педагогических работников;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здаёт условия для развивающего вариативного дошкольного образования; 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беспечивает открытость дошкольного образования;</a:t>
            </a:r>
            <a:endParaRPr b="0" lang="en-US" sz="20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оздает условия для участия родителей (законных представителей) в образовательной деятельности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Rectangle 4" descr=""/>
          <p:cNvPicPr/>
          <p:nvPr/>
        </p:nvPicPr>
        <p:blipFill>
          <a:blip r:embed="rId1"/>
          <a:stretch/>
        </p:blipFill>
        <p:spPr>
          <a:xfrm>
            <a:off x="1616040" y="401760"/>
            <a:ext cx="7126200" cy="1079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00000" y="170028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предметно-пространственная развивающая образовательная среда;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характер взаимодействия со взрослыми;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характер взаимодействия с другими детьми;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система отношений ребёнка к миру, к другим людям, к себе самому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это специфические для каждой Программы Организации (группы) образовательное оборудование, материалы, мебель, и т.п., в сочетании с определенными принципами разделения пространства Организации (группы).</a:t>
            </a: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дразумевается весь </a:t>
            </a:r>
            <a:r>
              <a:rPr b="0" lang="ru-RU" sz="28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комплекс условий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которые обеспечивают развитие детей в дошкольной образовательной организации, в том числе: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41280" indent="-341280">
              <a:lnSpc>
                <a:spcPct val="100000"/>
              </a:lnSpc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ивающая предметно-пространственная среда,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41280" indent="-341280">
              <a:lnSpc>
                <a:spcPct val="100000"/>
              </a:lnSpc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заимодействие между педагогами и детьми, 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41280" indent="-341280">
              <a:lnSpc>
                <a:spcPct val="100000"/>
              </a:lnSpc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етская игра, развивающее предметное содержание образовательных областей и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41280" indent="-341280">
              <a:lnSpc>
                <a:spcPct val="100000"/>
              </a:lnSpc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другие условия, перечисленные в Стандарте.</a:t>
            </a: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19:26:05Z</dcterms:created>
  <dc:creator/>
  <dc:description>Корпорация Майкрософт
Шаблон оформления</dc:description>
  <dc:language>en-US</dc:language>
  <cp:lastModifiedBy/>
  <dcterms:modified xsi:type="dcterms:W3CDTF">2014-08-21T01:39:56Z</dcterms:modified>
  <cp:revision>1</cp:revision>
  <dc:subject/>
  <dc:title/>
</cp:coreProperties>
</file>