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0069-F3DA-4021-971D-AF456DBA1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F8A2-ECF9-4426-B967-6C296C84B7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9B0C-69BA-44A1-9042-BDCEB6E3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B21-91D2-47F8-BDFB-F230D515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7EB-5840-4E83-AC6A-9A610116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EE4-0947-4DEF-AA68-0655E800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9EB-B80A-4C56-AF6D-3F733986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B06-D15F-4DD2-A762-35847D89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BF0-0798-4988-BDF9-6ED62511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9DE-A84C-44AD-81D7-4531E3C3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065-2242-439D-B7D3-A62F6752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0AA-E0C8-4E3D-9293-D1361E4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135-344D-4B78-853B-A5DC7CC0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5AF-D5FD-4EF5-BB37-901E6F3B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D22D-FC5C-4CAF-8A3B-2A3F190621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420840" y="317520"/>
            <a:ext cx="8278560" cy="333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987280" y="4724280"/>
            <a:ext cx="4784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икова О.А.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.н.с. ОЭП ИРО П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77400"/>
            <a:ext cx="82915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182520" y="378000"/>
            <a:ext cx="879624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16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7928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лификация педагог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отражает уровень профессиональной подготовки и его готовность к труду в сфере 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лификация педагог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 из его профессиональных компетенц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ая компетен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способность успешно действовать на основе практического опыта, умения и знаний при решении профессиональных зада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ессиональный стандар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а: документ, включающий перечень профессиональных и личностных требований к педагогу, действующий на всей территории Российской Федер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2" descr=""/>
          <p:cNvPicPr/>
          <p:nvPr/>
        </p:nvPicPr>
        <p:blipFill>
          <a:blip r:embed="rId1"/>
          <a:stretch/>
        </p:blipFill>
        <p:spPr>
          <a:xfrm>
            <a:off x="378000" y="274680"/>
            <a:ext cx="8626320" cy="17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539640" y="2203560"/>
          <a:ext cx="8064720" cy="3962160"/>
        </p:xfrm>
        <a:graphic>
          <a:graphicData uri="http://schemas.openxmlformats.org/drawingml/2006/table">
            <a:tbl>
              <a:tblPr/>
              <a:tblGrid>
                <a:gridCol w="4032360"/>
                <a:gridCol w="4032360"/>
              </a:tblGrid>
              <a:tr h="581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9aa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89aac"/>
                    </a:solidFill>
                  </a:tcPr>
                </a:tc>
              </a:tr>
              <a:tr h="3385800"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ческая деятельность по проектированию и реализации образовательного процесса в образовательных организациях дошкольного, начального общего, основного общего, среднего общего 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e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ическая деятельность по проектированию и реализации основных общеобразовательных програм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e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396720" y="92160"/>
            <a:ext cx="8290080" cy="1157040"/>
          </a:xfrm>
          <a:prstGeom prst="rect">
            <a:avLst/>
          </a:prstGeom>
          <a:ln w="0">
            <a:noFill/>
          </a:ln>
        </p:spPr>
      </p:pic>
      <p:pic>
        <p:nvPicPr>
          <p:cNvPr id="74" name="Объект 3" descr=""/>
          <p:cNvPicPr/>
          <p:nvPr/>
        </p:nvPicPr>
        <p:blipFill>
          <a:blip r:embed="rId2"/>
          <a:stretch/>
        </p:blipFill>
        <p:spPr>
          <a:xfrm>
            <a:off x="-73080" y="981000"/>
            <a:ext cx="918072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2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112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0" y="1268280"/>
          <a:ext cx="9144000" cy="6177240"/>
        </p:xfrm>
        <a:graphic>
          <a:graphicData uri="http://schemas.openxmlformats.org/drawingml/2006/table">
            <a:tbl>
              <a:tblPr/>
              <a:tblGrid>
                <a:gridCol w="2332080"/>
                <a:gridCol w="6811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ель, воспит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7a7a"/>
                    </a:solidFill>
                  </a:tcPr>
                </a:tc>
              </a:tr>
              <a:tr h="22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я 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шее профессиональное образование или среднее профессиональное образование по направлениям подготовки "Образование и педагогика",  либо высшее профессиональное образование или среднее профессиональное образование и дополнительное профессиональное образование по направлению деятельности в образовательной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е к опыту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я к опыту практической работы не предъявля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670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ые условия допуска к раб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педагогической деятельности не допускаются лиц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шенные права заниматься педагогической деятельностью в соответствии с вступившим в законную силу приговором суда, признанные недееспособными в установленном федеральным законом порядке; имеющие заболевания, предусмотренные установленным перечн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7200" y="-182520"/>
            <a:ext cx="841212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Объект 3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217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71520" y="-182520"/>
            <a:ext cx="8632800" cy="1719360"/>
          </a:xfrm>
          <a:prstGeom prst="rect">
            <a:avLst/>
          </a:prstGeom>
          <a:ln w="0">
            <a:noFill/>
          </a:ln>
        </p:spPr>
      </p:pic>
      <p:pic>
        <p:nvPicPr>
          <p:cNvPr id="80" name="Объект 3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217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244440" y="96840"/>
            <a:ext cx="8906040" cy="1719360"/>
          </a:xfrm>
          <a:prstGeom prst="rect">
            <a:avLst/>
          </a:prstGeom>
          <a:ln w="0">
            <a:noFill/>
          </a:ln>
        </p:spPr>
      </p:pic>
      <p:pic>
        <p:nvPicPr>
          <p:cNvPr id="82" name="Объект 3" descr=""/>
          <p:cNvPicPr/>
          <p:nvPr/>
        </p:nvPicPr>
        <p:blipFill>
          <a:blip r:embed="rId2"/>
          <a:stretch/>
        </p:blipFill>
        <p:spPr>
          <a:xfrm>
            <a:off x="469800" y="1847880"/>
            <a:ext cx="8217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384120" y="0"/>
            <a:ext cx="8534520" cy="2017800"/>
          </a:xfrm>
          <a:prstGeom prst="rect">
            <a:avLst/>
          </a:prstGeom>
          <a:ln w="0">
            <a:noFill/>
          </a:ln>
        </p:spPr>
      </p:pic>
      <p:pic>
        <p:nvPicPr>
          <p:cNvPr id="84" name="Объект 3" descr=""/>
          <p:cNvPicPr/>
          <p:nvPr/>
        </p:nvPicPr>
        <p:blipFill>
          <a:blip r:embed="rId2"/>
          <a:stretch/>
        </p:blipFill>
        <p:spPr>
          <a:xfrm>
            <a:off x="396720" y="2206800"/>
            <a:ext cx="82900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стие в разработке ООП  в соответствии с ФГ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стие в создании безопасной и психологически комфортной образовательной среды  ДО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ирование и реализация образовательной работы в группе в соответствии с ФГОС и О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роведение педагогического мониторинга освоения детьми образовательной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стие в планировании и корректировке образовательных задач по результатам мониторинга совместно со специалист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249120" y="334800"/>
            <a:ext cx="862020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122400" y="274680"/>
            <a:ext cx="8991360" cy="1262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2400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профессионально значимых компетенций, необходимых для решения образовательных задач развития детей раннего и дошкольного возраста с учетом особенностей возрастных и индивидуальных особенностей их 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позитивного психологического климата в груп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видов деятельности, осуществляемых в раннем и дошкольном возра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24000" y="1268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ывать виды деятельности, осуществляемые в раннем и дошкольном возра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ять методы физического, познавательного и личностного развития детей раннего и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методы и средства анализа психолого-педагогического мониторин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траивать партнерское взаимодействие с родителями  воспитан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ть ИКТ-компетентн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фика дошкольного образования и особенностей организации работы с дошкольник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ы дошкольной педагогики, включая классические системы дошкольного вос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е закономерности развития ребенка в раннем и дошкольном возра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обенности становления и развития детских деятельностей в раннем и дошкольном возра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ы теории физического, познавательного и личностного развития дет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ые тенденции развития дошкольного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6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учить содержание документа, довести настоящий приказ до сведения каждого педагогического работ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еть профессиональный стандарт на заседаниях предметных объединений, «круглых столах», педсовете, органах самоупра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направления деятельности администрации и педагогического коллектива по реализации трудовых функ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стандар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ести в соответствие  с профессиональным стандартом локальные акты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77400"/>
            <a:ext cx="85075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404280"/>
            <a:ext cx="511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ическая компетент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истемное явление, сущность которого состоит в системном единстве педагогических знаний, опыта, свойств и качеств педагога, позволяющих эффективно осуществлять педагогическую деятельность, целенаправленно организовывать процесс педагогического  общения и также предполагающих личностное развитие и совершенствование педагог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 компетент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разумевается обладание человеком соответствующей компетенции, включающей его личностное отношение к ней и предмету деятель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435280" y="476280"/>
            <a:ext cx="3529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ц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– личностные и межличностные качества, способности, навыки и знания, которые выражены в различных формах и ситуациях работы и социальной жиз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это общая способность, основанная на знаниях, опыте, ценностях, склонностях, которые приобретены благодаря обучени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176040" y="189000"/>
            <a:ext cx="8944200" cy="1305000"/>
          </a:xfrm>
          <a:prstGeom prst="rect">
            <a:avLst/>
          </a:prstGeom>
          <a:ln w="0">
            <a:noFill/>
          </a:ln>
        </p:spPr>
      </p:pic>
      <p:pic>
        <p:nvPicPr>
          <p:cNvPr id="56" name="Объект 3" descr=""/>
          <p:cNvPicPr/>
          <p:nvPr/>
        </p:nvPicPr>
        <p:blipFill>
          <a:blip r:embed="rId2"/>
          <a:stretch/>
        </p:blipFill>
        <p:spPr>
          <a:xfrm>
            <a:off x="165240" y="1414440"/>
            <a:ext cx="8978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pic>
        <p:nvPicPr>
          <p:cNvPr id="58" name="Объект 3" descr=""/>
          <p:cNvPicPr/>
          <p:nvPr/>
        </p:nvPicPr>
        <p:blipFill>
          <a:blip r:embed="rId2"/>
          <a:stretch/>
        </p:blipFill>
        <p:spPr>
          <a:xfrm>
            <a:off x="457200" y="1530360"/>
            <a:ext cx="84376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 деле обучения и воспитания, во всем школьном деле ничего нельзя улучшить, минуя голову учител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(К.Д.Ушинский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8920" y="1628280"/>
            <a:ext cx="8518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авовой статус педагогического работника (федеральный закон от 29.12.2012г. № 273-ФЗ   «Об образовании в Российской Федерации» статьи 47, 48, 49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фессиональный стандарт педагога (приказ Минтруда РФ от 18.10.2013 г. N 544н  «Об утверждении профессионального стандарта «Педагог (педагогическая деятельность в сфере дошкольного, начального общего, основного общего, среднего общего образования) (воспитатель, учитель)». Зарегистрирован в Минюсте РФ 6.12.2013 г. Регистрационный N 30550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удовой кодекс РФ.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-360" y="1196640"/>
            <a:ext cx="8642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ндарт – инструмент реализации стратегии образования в меняющемся ми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ндарт – инструмент повышения качества образования и выхода отечественного образования на международный урове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ндарт – объективный измеритель квалификации педаго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ндарт – средство отбора педагогических кадров в учреждения 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ндарт – основа для формирования трудового договора, фиксирующего отношения между работником и работодател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Заголовок 2" descr=""/>
          <p:cNvPicPr/>
          <p:nvPr/>
        </p:nvPicPr>
        <p:blipFill>
          <a:blip r:embed="rId1"/>
          <a:stretch/>
        </p:blipFill>
        <p:spPr>
          <a:xfrm>
            <a:off x="841320" y="158760"/>
            <a:ext cx="858384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884600"/>
          </a:xfrm>
          <a:prstGeom prst="rect">
            <a:avLst/>
          </a:prstGeom>
          <a:ln w="0">
            <a:noFill/>
          </a:ln>
        </p:spPr>
      </p:pic>
      <p:pic>
        <p:nvPicPr>
          <p:cNvPr id="66" name="Объект 3" descr=""/>
          <p:cNvPicPr/>
          <p:nvPr/>
        </p:nvPicPr>
        <p:blipFill>
          <a:blip r:embed="rId2"/>
          <a:stretch/>
        </p:blipFill>
        <p:spPr>
          <a:xfrm>
            <a:off x="255600" y="1841400"/>
            <a:ext cx="843768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1T06:32:03Z</dcterms:created>
  <dc:creator>olga</dc:creator>
  <dc:description/>
  <dc:language>en-US</dc:language>
  <cp:lastModifiedBy>olga</cp:lastModifiedBy>
  <dcterms:modified xsi:type="dcterms:W3CDTF">2014-08-20T14:37:57Z</dcterms:modified>
  <cp:revision>31</cp:revision>
  <dc:subject/>
  <dc:title>Профессиональная компетентность педагога – гарантия качества образовательных результатов</dc:title>
</cp:coreProperties>
</file>