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22.png" ContentType="image/png"/>
  <Override PartName="/ppt/media/image15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39A-B80D-420B-8DD2-5F8031FF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6FB-CAF0-483B-BE5B-1F8351D0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4F91-FA6B-4D51-8335-5301E929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622-FDF8-49C7-B4A2-BE75AC56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49E9-6F55-467B-A8AF-2DF795A1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5964-E514-493A-AB4D-29204CD6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A97C-9B8A-49A0-9287-13504023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ECE7-6811-4AB9-A425-7054A45E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F63B-2271-4E22-8D9E-30BAD921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5109-C54C-4923-8268-3309079D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2042-1E47-4BEF-94B7-59704B6A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A9A-26A6-45F8-BFB6-65906D02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33F7-51BA-4538-94CF-EC664297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CB52-3CD6-4FE9-A7B7-33515583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BBE9-C0B2-442B-8B87-5348CDEF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6AD5-87AE-4249-9CE7-DD972092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971A-AD65-4D9C-AF0E-D3E98277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2D1-DA12-4A5E-BD95-5D2E81A6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354-9082-4D3A-A542-9DA5B2A0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EA7-8006-4C55-9308-567E6BF4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95A-8071-49D2-973E-9571ECBE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7E5E-6C16-4FD2-9A08-B2E341CF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427F-36D6-4EB1-9CF4-229D5C89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24A-B37D-46D5-B2FF-0D42C51D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4CAC-324E-44C5-BEA2-A85AC41057D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3391-7D1B-485A-BD50-34EFEF252A0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458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Технология организации персональной выставки ребёнка как форма презентации его достижений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4436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Формы представления рисунков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ссказ о том, что хотел изобразить авто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ение стихов зрителями по предложенному рисун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227640" y="3645000"/>
            <a:ext cx="2194200" cy="2923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284720" y="1700280"/>
            <a:ext cx="2160360" cy="288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рансляция техники исполнения работы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Чтение стихотворений придуманных либо самим ребёнком, либо написанных вместе с родителя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2708280"/>
            <a:ext cx="3771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ыбка по воде плывёт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 подружек всех зовёт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болтать, потанцев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прятки весело сыгр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олько тишина в отв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ожет, в море никого больше нет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5004000" cy="375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Вхождение в рисунок»;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ссказ авторской сказ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52545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Жил-был на свете маленький весёлый человечек. А город, в котором он жил, был серый и грустный. Маленький весёлый человечек сделал для жителей большой праздник. Всем очень понравилось. И люди вышли на улицу, и покрасили дома яркими красками. Город стал весёлым и солнечным. А весёлый человечек теперь работает клоуно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580000" y="357336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588000" y="404640"/>
            <a:ext cx="2160720" cy="28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ение стихотворений поэтов по теме работ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691920"/>
            <a:ext cx="3203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Ты откуда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илый жук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олубые ножки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идишь, я тебя держу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 своей ладошке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 роще калиновой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 роще осиново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 именины к щенку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шляпе малиново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Шёл ёжик резиновы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 дырочкой в правом бо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48000" y="620640"/>
            <a:ext cx="3771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сёлая Лягуш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Жила в одной рек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верх дном её избуш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ояла, бре-ке-ке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рона сидела на лавк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Митя увиде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рон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не обиде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рону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тольк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гладил ей лап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Юнна Мориц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 rot="4936800">
            <a:off x="3394800" y="1294200"/>
            <a:ext cx="2511360" cy="1884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059280" y="3860640"/>
            <a:ext cx="2085840" cy="2781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 rot="5761800">
            <a:off x="6669360" y="2266920"/>
            <a:ext cx="2232000" cy="1675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Третий этап (презентационны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ржественное открытие выстав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дставление автора и темы выстав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зентация ребёнком своих рисунк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ы автора на вопросы любопытных зрителей (детей и взрослых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95280" y="1073160"/>
            <a:ext cx="3344760" cy="2508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356000" y="1100160"/>
            <a:ext cx="3308400" cy="2481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Четвёртый этап (итоговы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37735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сказывания отношения зрителей к работам автор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ценка ребёнком-автором своего преставления и, по желанию, планы на будущее в данном виде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бщение самооценки ребёнка и высказываний детей педагогом (подведение итогов выставки) и вручение диплома участника персональной выставк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бор ребёнком рисунков с выставки в портфоли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610160" y="2243160"/>
            <a:ext cx="4533840" cy="3400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19928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Задачи, которые помогает решать данная форма работы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крытие ребёнком себя как индивидуальности в глазах сверстник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обретение опыта презентации своих достижен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обретение умений и навыков в построении общения со сверстниками и взрослыми, являющимися участниками выстав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уществление возможности ребёнка стать равноправным субъектом при формировании материалов своего портфоли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ерсональная выставка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00720" y="1916280"/>
            <a:ext cx="424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Это точка, от которой ребёнок сделает шаг для достижения новых це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Для детей–зрителей - это возможность увидеть своего друга с другой точки зрения, а для кого-то стимул попробовать себя в этом виде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3260880" cy="4346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Почему появилась данная форма работы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удожественно-творческая деятельность – это один из основных видов  деятельности детей дошкольного возраста, но при этом её результаты представлены, как правило, лишь в виде выставо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зволяет создавать предметно-развивающую среду, которая   обеспечивает возможность для самовыражения воспитанников, условия для индивидуального комфорта и эмоционального благополуч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троение образовательного процесса происходит с учетом принципа интеграции и использования образовательных технологий деятельностного тип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здает условия для участия родителей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Что предполагает презентация персональной выставк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езентация персональной выставк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это разновидность художественной выставки, которая подразумевает ознакомление зрителей с работами одного ребёнка и сопровождаемая выбранной данным автором формой представлени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При каких условиях возможно проведение персональной выставк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нтерес ребёнка к изобразительной деятельности и наличие его рабо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елание не только показать свои достижения, но и рассказать о н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интересованность со стороны родителей и педагогов в проведении данного мероприят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личие демонстрационного пространства в среде детского са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Как организовать персональную выставку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Первый этап (подготовительный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тбор вместе с ребёнком и его родителями рисунков для выстав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бор общей темы формулируется, исходя из тематики отобранных рабо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Темами выставки могут быт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590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Принцесса График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Я тоже рисую стихи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по произведениям детских поэтов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867280" y="1052640"/>
            <a:ext cx="1998720" cy="2665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987640" y="1628640"/>
            <a:ext cx="2631960" cy="1973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 rot="5888400">
            <a:off x="5597640" y="420264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 rot="4819200">
            <a:off x="3198240" y="3938400"/>
            <a:ext cx="2921040" cy="2190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24000" y="981000"/>
            <a:ext cx="2619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Волшебство батик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Красивое рядом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239920" cy="2986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627280" y="33336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419640" y="3141720"/>
            <a:ext cx="2342880" cy="3024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971640" y="2781360"/>
            <a:ext cx="2301840" cy="3068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288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Эти разные животные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Сказка на кончике кист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 rot="21357000">
            <a:off x="3708360" y="259920"/>
            <a:ext cx="2163960" cy="2884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700360" y="3213000"/>
            <a:ext cx="3205080" cy="2405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 rot="6100800">
            <a:off x="5406840" y="3817800"/>
            <a:ext cx="3110040" cy="2332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300720" y="404640"/>
            <a:ext cx="2130480" cy="2840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7080" y="259920"/>
            <a:ext cx="6870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Второй этап (организационны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622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бор формы представления своих рабо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бор литературного материала (если это стихи, то их заучивание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формление и размещение детских работ в предусмотренном мест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рганизация пространства для комфортного просмотра выставки деть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ожет быть подбор музыкального сопровожд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27640" y="3573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00720" y="907920"/>
            <a:ext cx="3671640" cy="2752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4:22:08Z</dcterms:created>
  <dc:creator>User</dc:creator>
  <dc:description/>
  <dc:language>en-US</dc:language>
  <cp:lastModifiedBy>user</cp:lastModifiedBy>
  <dcterms:modified xsi:type="dcterms:W3CDTF">2014-06-10T04:43:09Z</dcterms:modified>
  <cp:revision>15</cp:revision>
  <dc:subject/>
  <dc:title>Персональная выставка как форма презентации достижений ребёнка</dc:title>
</cp:coreProperties>
</file>